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511A580-F9FD-4AF5-9555-9B24AACA6160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4D94668-B779-4991-AA61-4DA5F13F9036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0613433-B58D-4B68-9556-32353CC6E741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tshållare för bildnummer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A07DF90-1CFA-4B1D-B0E4-0EAB0FBD7728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920" y="384984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60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628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92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60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628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920" y="254160"/>
            <a:ext cx="842472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67560"/>
            <a:ext cx="9144000" cy="19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ffffff"/>
                </a:solidFill>
                <a:latin typeface="Arial"/>
              </a:rPr>
              <a:t>2D &amp; 3D – modellering och datorgrafik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169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Verdana"/>
              </a:rPr>
              <a:t>© 2002 Högskolan i Kalmar, Institutionen för teknik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924360" y="2976480"/>
            <a:ext cx="516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5160" y="663120"/>
            <a:ext cx="7772400" cy="6289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500" spc="-1" strike="noStrike">
                <a:solidFill>
                  <a:srgbClr val="000000"/>
                </a:solidFill>
                <a:latin typeface="Verdana"/>
              </a:rPr>
              <a:t>Inför uppgift 2</a:t>
            </a:r>
            <a:endParaRPr b="1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7040" y="1666800"/>
            <a:ext cx="807696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När du löser uppgift 2 kommer du att använda matriser och matrismultiplikation. Den här presentationen innehå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Kort genomgång av matri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Genomgång av förflyttningarna:</a:t>
            </a:r>
            <a:br>
              <a:rPr sz="2400"/>
            </a:b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    rotation och speg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Genomgång av förflyttningen:</a:t>
            </a:r>
            <a:br>
              <a:rPr sz="2400"/>
            </a:br>
            <a:r>
              <a:rPr b="1" i="1" lang="sv-SE" sz="2400" spc="-1" strike="noStrike">
                <a:solidFill>
                  <a:srgbClr val="000000"/>
                </a:solidFill>
                <a:latin typeface="Verdana"/>
              </a:rPr>
              <a:t>    trans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ounded Rectangle 130"/>
          <p:cNvSpPr/>
          <p:nvPr/>
        </p:nvSpPr>
        <p:spPr>
          <a:xfrm>
            <a:off x="6588000" y="4098960"/>
            <a:ext cx="776520" cy="777960"/>
          </a:xfrm>
          <a:custGeom>
            <a:avLst/>
            <a:gdLst>
              <a:gd name="textAreaLeft" fmla="*/ 37800 w 776520"/>
              <a:gd name="textAreaRight" fmla="*/ 738720 w 776520"/>
              <a:gd name="textAreaTop" fmla="*/ 37800 h 777960"/>
              <a:gd name="textAreaBottom" fmla="*/ 740160 h 777960"/>
            </a:gdLst>
            <a:ahLst/>
            <a:rect l="textAreaLeft" t="textAreaTop" r="textAreaRight" b="textAreaBottom"/>
            <a:pathLst>
              <a:path w="21600" h="21640">
                <a:moveTo>
                  <a:pt x="3600" y="0"/>
                </a:moveTo>
                <a:arcTo wR="3600" hR="3600" stAng="16200000" swAng="-5400000"/>
                <a:lnTo>
                  <a:pt x="0" y="18040"/>
                </a:lnTo>
                <a:arcTo wR="3600" hR="3600" stAng="10800000" swAng="-5400000"/>
                <a:lnTo>
                  <a:pt x="18000" y="216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Linjär avbildn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262160" y="1255680"/>
            <a:ext cx="766908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Förändringarna av huset som vi gör med mutrismulti-plikation kallas linjära avbildningar. För en linjär avbildning gäller att varje punkt på linjerna i det ursprungliga huset avbildas på linjerna som sammanbinder punkterna i avbildningen av hus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ittar vi på punkten (4,1) som ligger mitt på en sida i det ursprungliga huset kommer denna att avbildas mitt på sidan i det avbildade hus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1" name="Straight Arrow Connector 15"/>
          <p:cNvCxnSpPr/>
          <p:nvPr/>
        </p:nvCxnSpPr>
        <p:spPr>
          <a:xfrm flipV="1">
            <a:off x="1522080" y="6281280"/>
            <a:ext cx="1794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2" name="Straight Connector 26"/>
          <p:cNvSpPr/>
          <p:nvPr/>
        </p:nvSpPr>
        <p:spPr>
          <a:xfrm>
            <a:off x="1527120" y="5862600"/>
            <a:ext cx="16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traight Connector 34"/>
          <p:cNvSpPr/>
          <p:nvPr/>
        </p:nvSpPr>
        <p:spPr>
          <a:xfrm>
            <a:off x="1533600" y="543888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Straight Connector 47"/>
          <p:cNvSpPr/>
          <p:nvPr/>
        </p:nvSpPr>
        <p:spPr>
          <a:xfrm flipV="1">
            <a:off x="1530360" y="4993920"/>
            <a:ext cx="1635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traight Connector 51"/>
          <p:cNvSpPr/>
          <p:nvPr/>
        </p:nvSpPr>
        <p:spPr>
          <a:xfrm flipV="1">
            <a:off x="153036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Straight Connector 54"/>
          <p:cNvSpPr/>
          <p:nvPr/>
        </p:nvSpPr>
        <p:spPr>
          <a:xfrm>
            <a:off x="1530360" y="4079880"/>
            <a:ext cx="1620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7" name="Straight Arrow Connector 63"/>
          <p:cNvCxnSpPr/>
          <p:nvPr/>
        </p:nvCxnSpPr>
        <p:spPr>
          <a:xfrm flipV="1">
            <a:off x="1521000" y="3906360"/>
            <a:ext cx="16560" cy="238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8" name="Straight Connector 68"/>
          <p:cNvSpPr/>
          <p:nvPr/>
        </p:nvSpPr>
        <p:spPr>
          <a:xfrm flipV="1">
            <a:off x="200340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Straight Connector 71"/>
          <p:cNvSpPr/>
          <p:nvPr/>
        </p:nvSpPr>
        <p:spPr>
          <a:xfrm flipV="1">
            <a:off x="2468520" y="4076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traight Connector 72"/>
          <p:cNvSpPr/>
          <p:nvPr/>
        </p:nvSpPr>
        <p:spPr>
          <a:xfrm flipV="1">
            <a:off x="2946240" y="408096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Box 73"/>
          <p:cNvSpPr/>
          <p:nvPr/>
        </p:nvSpPr>
        <p:spPr>
          <a:xfrm>
            <a:off x="1531800" y="62406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Box 74"/>
          <p:cNvSpPr/>
          <p:nvPr/>
        </p:nvSpPr>
        <p:spPr>
          <a:xfrm>
            <a:off x="1185120" y="570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Box 75"/>
          <p:cNvSpPr/>
          <p:nvPr/>
        </p:nvSpPr>
        <p:spPr>
          <a:xfrm>
            <a:off x="1136880" y="4834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Box 76"/>
          <p:cNvSpPr/>
          <p:nvPr/>
        </p:nvSpPr>
        <p:spPr>
          <a:xfrm>
            <a:off x="1214640" y="5272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Box 77"/>
          <p:cNvSpPr/>
          <p:nvPr/>
        </p:nvSpPr>
        <p:spPr>
          <a:xfrm>
            <a:off x="114012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78"/>
          <p:cNvSpPr/>
          <p:nvPr/>
        </p:nvSpPr>
        <p:spPr>
          <a:xfrm>
            <a:off x="111312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20"/>
          <p:cNvSpPr/>
          <p:nvPr/>
        </p:nvSpPr>
        <p:spPr>
          <a:xfrm flipH="1" flipV="1">
            <a:off x="1512720" y="6288120"/>
            <a:ext cx="14472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20"/>
          <p:cNvSpPr/>
          <p:nvPr/>
        </p:nvSpPr>
        <p:spPr>
          <a:xfrm flipH="1">
            <a:off x="1757520" y="6289560"/>
            <a:ext cx="25704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Straight Arrow Connector 90"/>
          <p:cNvCxnSpPr/>
          <p:nvPr/>
        </p:nvCxnSpPr>
        <p:spPr>
          <a:xfrm flipV="1">
            <a:off x="4311360" y="6281280"/>
            <a:ext cx="17946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Straight Connector 91"/>
          <p:cNvSpPr/>
          <p:nvPr/>
        </p:nvSpPr>
        <p:spPr>
          <a:xfrm>
            <a:off x="4316400" y="586440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Straight Connector 92"/>
          <p:cNvSpPr/>
          <p:nvPr/>
        </p:nvSpPr>
        <p:spPr>
          <a:xfrm flipV="1">
            <a:off x="4322880" y="5438880"/>
            <a:ext cx="1631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Straight Connector 93"/>
          <p:cNvSpPr/>
          <p:nvPr/>
        </p:nvSpPr>
        <p:spPr>
          <a:xfrm flipV="1">
            <a:off x="4319640" y="4995360"/>
            <a:ext cx="1635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Straight Connector 94"/>
          <p:cNvSpPr/>
          <p:nvPr/>
        </p:nvSpPr>
        <p:spPr>
          <a:xfrm flipV="1">
            <a:off x="431964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Straight Connector 95"/>
          <p:cNvSpPr/>
          <p:nvPr/>
        </p:nvSpPr>
        <p:spPr>
          <a:xfrm>
            <a:off x="4319640" y="4079880"/>
            <a:ext cx="1620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5" name="Straight Arrow Connector 96"/>
          <p:cNvCxnSpPr/>
          <p:nvPr/>
        </p:nvCxnSpPr>
        <p:spPr>
          <a:xfrm flipV="1">
            <a:off x="4309920" y="3908160"/>
            <a:ext cx="16560" cy="23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6" name="Straight Connector 97"/>
          <p:cNvSpPr/>
          <p:nvPr/>
        </p:nvSpPr>
        <p:spPr>
          <a:xfrm flipV="1">
            <a:off x="479124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Straight Connector 98"/>
          <p:cNvSpPr/>
          <p:nvPr/>
        </p:nvSpPr>
        <p:spPr>
          <a:xfrm flipV="1">
            <a:off x="5257800" y="407628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traight Connector 99"/>
          <p:cNvSpPr/>
          <p:nvPr/>
        </p:nvSpPr>
        <p:spPr>
          <a:xfrm flipV="1">
            <a:off x="5735520" y="4083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Box 100"/>
          <p:cNvSpPr/>
          <p:nvPr/>
        </p:nvSpPr>
        <p:spPr>
          <a:xfrm>
            <a:off x="4321080" y="624204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101"/>
          <p:cNvSpPr/>
          <p:nvPr/>
        </p:nvSpPr>
        <p:spPr>
          <a:xfrm>
            <a:off x="3973680" y="5703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Box 102"/>
          <p:cNvSpPr/>
          <p:nvPr/>
        </p:nvSpPr>
        <p:spPr>
          <a:xfrm>
            <a:off x="3926160" y="4835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Box 103"/>
          <p:cNvSpPr/>
          <p:nvPr/>
        </p:nvSpPr>
        <p:spPr>
          <a:xfrm>
            <a:off x="4002840" y="5273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Box 104"/>
          <p:cNvSpPr/>
          <p:nvPr/>
        </p:nvSpPr>
        <p:spPr>
          <a:xfrm>
            <a:off x="392940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Box 105"/>
          <p:cNvSpPr/>
          <p:nvPr/>
        </p:nvSpPr>
        <p:spPr>
          <a:xfrm>
            <a:off x="390240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0"/>
          <p:cNvSpPr/>
          <p:nvPr/>
        </p:nvSpPr>
        <p:spPr>
          <a:xfrm flipH="1" flipV="1">
            <a:off x="4302000" y="6287760"/>
            <a:ext cx="14472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0"/>
          <p:cNvSpPr/>
          <p:nvPr/>
        </p:nvSpPr>
        <p:spPr>
          <a:xfrm flipH="1">
            <a:off x="4546440" y="6291360"/>
            <a:ext cx="2556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1519200" y="6084720"/>
            <a:ext cx="1800" cy="219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20"/>
          <p:cNvSpPr/>
          <p:nvPr/>
        </p:nvSpPr>
        <p:spPr>
          <a:xfrm>
            <a:off x="1998720" y="6089760"/>
            <a:ext cx="0" cy="218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20"/>
          <p:cNvSpPr/>
          <p:nvPr/>
        </p:nvSpPr>
        <p:spPr>
          <a:xfrm flipH="1">
            <a:off x="1517400" y="5861160"/>
            <a:ext cx="252360" cy="2426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52480" y="5864400"/>
            <a:ext cx="249480" cy="23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1639800" y="6168960"/>
            <a:ext cx="1800" cy="128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20"/>
          <p:cNvSpPr/>
          <p:nvPr/>
        </p:nvSpPr>
        <p:spPr>
          <a:xfrm>
            <a:off x="1771560" y="6183360"/>
            <a:ext cx="1800" cy="1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Line 20"/>
          <p:cNvSpPr/>
          <p:nvPr/>
        </p:nvSpPr>
        <p:spPr>
          <a:xfrm flipH="1" flipV="1">
            <a:off x="1619280" y="6175080"/>
            <a:ext cx="17136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20"/>
          <p:cNvSpPr/>
          <p:nvPr/>
        </p:nvSpPr>
        <p:spPr>
          <a:xfrm flipH="1">
            <a:off x="4414680" y="5764320"/>
            <a:ext cx="262080" cy="525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20"/>
          <p:cNvSpPr/>
          <p:nvPr/>
        </p:nvSpPr>
        <p:spPr>
          <a:xfrm flipH="1">
            <a:off x="4536720" y="5769000"/>
            <a:ext cx="260280" cy="5256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Line 20"/>
          <p:cNvSpPr/>
          <p:nvPr/>
        </p:nvSpPr>
        <p:spPr>
          <a:xfrm flipH="1" flipV="1">
            <a:off x="4659120" y="5772240"/>
            <a:ext cx="14436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20"/>
          <p:cNvSpPr/>
          <p:nvPr/>
        </p:nvSpPr>
        <p:spPr>
          <a:xfrm flipH="1">
            <a:off x="4314600" y="5210280"/>
            <a:ext cx="485640" cy="1071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20"/>
          <p:cNvSpPr/>
          <p:nvPr/>
        </p:nvSpPr>
        <p:spPr>
          <a:xfrm flipH="1">
            <a:off x="4775040" y="5234040"/>
            <a:ext cx="486000" cy="10731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20"/>
          <p:cNvSpPr/>
          <p:nvPr/>
        </p:nvSpPr>
        <p:spPr>
          <a:xfrm flipH="1">
            <a:off x="4792680" y="4071960"/>
            <a:ext cx="719280" cy="11541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20"/>
          <p:cNvSpPr/>
          <p:nvPr/>
        </p:nvSpPr>
        <p:spPr>
          <a:xfrm flipH="1">
            <a:off x="5257800" y="4071960"/>
            <a:ext cx="246240" cy="11826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Oval 84"/>
          <p:cNvSpPr/>
          <p:nvPr/>
        </p:nvSpPr>
        <p:spPr>
          <a:xfrm>
            <a:off x="4971960" y="572760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Oval 84"/>
          <p:cNvSpPr/>
          <p:nvPr/>
        </p:nvSpPr>
        <p:spPr>
          <a:xfrm>
            <a:off x="1947960" y="613872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6541920" y="4075200"/>
                <a:ext cx="2035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Rectangle 131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132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traight Connector 58"/>
          <p:cNvSpPr/>
          <p:nvPr/>
        </p:nvSpPr>
        <p:spPr>
          <a:xfrm flipV="1">
            <a:off x="6224760" y="408096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Straight Connector 68"/>
          <p:cNvSpPr/>
          <p:nvPr/>
        </p:nvSpPr>
        <p:spPr>
          <a:xfrm flipV="1">
            <a:off x="200340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8" name="Straight Arrow Connector 15"/>
          <p:cNvCxnSpPr/>
          <p:nvPr/>
        </p:nvCxnSpPr>
        <p:spPr>
          <a:xfrm flipV="1">
            <a:off x="1522080" y="6281280"/>
            <a:ext cx="1794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9" name="Straight Arrow Connector 63"/>
          <p:cNvCxnSpPr/>
          <p:nvPr/>
        </p:nvCxnSpPr>
        <p:spPr>
          <a:xfrm flipV="1">
            <a:off x="1521000" y="3906360"/>
            <a:ext cx="16560" cy="238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Line 20"/>
          <p:cNvSpPr/>
          <p:nvPr/>
        </p:nvSpPr>
        <p:spPr>
          <a:xfrm flipH="1" flipV="1">
            <a:off x="1512720" y="6288120"/>
            <a:ext cx="14472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20"/>
          <p:cNvSpPr/>
          <p:nvPr/>
        </p:nvSpPr>
        <p:spPr>
          <a:xfrm flipH="1">
            <a:off x="1757520" y="6289560"/>
            <a:ext cx="25704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1519200" y="6084720"/>
            <a:ext cx="1800" cy="219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998720" y="6089760"/>
            <a:ext cx="0" cy="218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20"/>
          <p:cNvSpPr/>
          <p:nvPr/>
        </p:nvSpPr>
        <p:spPr>
          <a:xfrm flipH="1">
            <a:off x="1517400" y="5861160"/>
            <a:ext cx="252360" cy="2426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20"/>
          <p:cNvSpPr/>
          <p:nvPr/>
        </p:nvSpPr>
        <p:spPr>
          <a:xfrm>
            <a:off x="1752480" y="5864400"/>
            <a:ext cx="249480" cy="23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20"/>
          <p:cNvSpPr/>
          <p:nvPr/>
        </p:nvSpPr>
        <p:spPr>
          <a:xfrm>
            <a:off x="1639800" y="6168960"/>
            <a:ext cx="1800" cy="128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20"/>
          <p:cNvSpPr/>
          <p:nvPr/>
        </p:nvSpPr>
        <p:spPr>
          <a:xfrm>
            <a:off x="1771560" y="6183360"/>
            <a:ext cx="1800" cy="1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20"/>
          <p:cNvSpPr/>
          <p:nvPr/>
        </p:nvSpPr>
        <p:spPr>
          <a:xfrm flipH="1" flipV="1">
            <a:off x="1619280" y="6175080"/>
            <a:ext cx="17136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Oval 84"/>
          <p:cNvSpPr/>
          <p:nvPr/>
        </p:nvSpPr>
        <p:spPr>
          <a:xfrm>
            <a:off x="1954080" y="613872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Icke-linjär avbildn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262160" y="1255680"/>
            <a:ext cx="75420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tt exempel på en icke-linjär avbildning: alla element i husmatrisen, h, upphöjs till två. Punkten (4,1) kommer inte att avbildas mitt på sidan i det avbildade hu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ursen omfattar inte icke-linjära avbildning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traight Connector 26"/>
          <p:cNvSpPr/>
          <p:nvPr/>
        </p:nvSpPr>
        <p:spPr>
          <a:xfrm>
            <a:off x="1527120" y="5862600"/>
            <a:ext cx="16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Straight Connector 34"/>
          <p:cNvSpPr/>
          <p:nvPr/>
        </p:nvSpPr>
        <p:spPr>
          <a:xfrm>
            <a:off x="1533600" y="543888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traight Connector 47"/>
          <p:cNvSpPr/>
          <p:nvPr/>
        </p:nvSpPr>
        <p:spPr>
          <a:xfrm flipV="1">
            <a:off x="1530360" y="4993920"/>
            <a:ext cx="1635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traight Connector 51"/>
          <p:cNvSpPr/>
          <p:nvPr/>
        </p:nvSpPr>
        <p:spPr>
          <a:xfrm flipV="1">
            <a:off x="153036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Straight Connector 54"/>
          <p:cNvSpPr/>
          <p:nvPr/>
        </p:nvSpPr>
        <p:spPr>
          <a:xfrm>
            <a:off x="1530360" y="4079880"/>
            <a:ext cx="1620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traight Connector 71"/>
          <p:cNvSpPr/>
          <p:nvPr/>
        </p:nvSpPr>
        <p:spPr>
          <a:xfrm flipV="1">
            <a:off x="2468520" y="4076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Straight Connector 72"/>
          <p:cNvSpPr/>
          <p:nvPr/>
        </p:nvSpPr>
        <p:spPr>
          <a:xfrm flipV="1">
            <a:off x="2946240" y="408096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Box 73"/>
          <p:cNvSpPr/>
          <p:nvPr/>
        </p:nvSpPr>
        <p:spPr>
          <a:xfrm>
            <a:off x="1531800" y="62406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Box 74"/>
          <p:cNvSpPr/>
          <p:nvPr/>
        </p:nvSpPr>
        <p:spPr>
          <a:xfrm>
            <a:off x="1185120" y="570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Box 75"/>
          <p:cNvSpPr/>
          <p:nvPr/>
        </p:nvSpPr>
        <p:spPr>
          <a:xfrm>
            <a:off x="1136880" y="4834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76"/>
          <p:cNvSpPr/>
          <p:nvPr/>
        </p:nvSpPr>
        <p:spPr>
          <a:xfrm>
            <a:off x="1214640" y="5272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77"/>
          <p:cNvSpPr/>
          <p:nvPr/>
        </p:nvSpPr>
        <p:spPr>
          <a:xfrm>
            <a:off x="114012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Box 78"/>
          <p:cNvSpPr/>
          <p:nvPr/>
        </p:nvSpPr>
        <p:spPr>
          <a:xfrm>
            <a:off x="111312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5" name="Straight Arrow Connector 90"/>
          <p:cNvCxnSpPr/>
          <p:nvPr/>
        </p:nvCxnSpPr>
        <p:spPr>
          <a:xfrm flipV="1">
            <a:off x="4311720" y="6287760"/>
            <a:ext cx="2309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6" name="Straight Connector 91"/>
          <p:cNvSpPr/>
          <p:nvPr/>
        </p:nvSpPr>
        <p:spPr>
          <a:xfrm>
            <a:off x="4316400" y="58644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traight Connector 92"/>
          <p:cNvSpPr/>
          <p:nvPr/>
        </p:nvSpPr>
        <p:spPr>
          <a:xfrm>
            <a:off x="4322880" y="5440320"/>
            <a:ext cx="190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traight Connector 93"/>
          <p:cNvSpPr/>
          <p:nvPr/>
        </p:nvSpPr>
        <p:spPr>
          <a:xfrm>
            <a:off x="4319640" y="4997520"/>
            <a:ext cx="1901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Straight Connector 94"/>
          <p:cNvSpPr/>
          <p:nvPr/>
        </p:nvSpPr>
        <p:spPr>
          <a:xfrm flipV="1">
            <a:off x="4319640" y="4535640"/>
            <a:ext cx="19065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traight Connector 95"/>
          <p:cNvSpPr/>
          <p:nvPr/>
        </p:nvSpPr>
        <p:spPr>
          <a:xfrm>
            <a:off x="4319640" y="4079880"/>
            <a:ext cx="191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1" name="Straight Arrow Connector 96"/>
          <p:cNvCxnSpPr/>
          <p:nvPr/>
        </p:nvCxnSpPr>
        <p:spPr>
          <a:xfrm flipV="1">
            <a:off x="4309920" y="3908160"/>
            <a:ext cx="16560" cy="23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Straight Connector 97"/>
          <p:cNvSpPr/>
          <p:nvPr/>
        </p:nvSpPr>
        <p:spPr>
          <a:xfrm flipV="1">
            <a:off x="479124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traight Connector 98"/>
          <p:cNvSpPr/>
          <p:nvPr/>
        </p:nvSpPr>
        <p:spPr>
          <a:xfrm flipV="1">
            <a:off x="5257800" y="407628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Straight Connector 99"/>
          <p:cNvSpPr/>
          <p:nvPr/>
        </p:nvSpPr>
        <p:spPr>
          <a:xfrm flipV="1">
            <a:off x="5749920" y="4083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Box 100"/>
          <p:cNvSpPr/>
          <p:nvPr/>
        </p:nvSpPr>
        <p:spPr>
          <a:xfrm>
            <a:off x="4363200" y="6242040"/>
            <a:ext cx="18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   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Box 101"/>
          <p:cNvSpPr/>
          <p:nvPr/>
        </p:nvSpPr>
        <p:spPr>
          <a:xfrm>
            <a:off x="3973680" y="5703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Box 102"/>
          <p:cNvSpPr/>
          <p:nvPr/>
        </p:nvSpPr>
        <p:spPr>
          <a:xfrm>
            <a:off x="3926160" y="4835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Box 103"/>
          <p:cNvSpPr/>
          <p:nvPr/>
        </p:nvSpPr>
        <p:spPr>
          <a:xfrm>
            <a:off x="4002840" y="5273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Box 104"/>
          <p:cNvSpPr/>
          <p:nvPr/>
        </p:nvSpPr>
        <p:spPr>
          <a:xfrm>
            <a:off x="392940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Box 105"/>
          <p:cNvSpPr/>
          <p:nvPr/>
        </p:nvSpPr>
        <p:spPr>
          <a:xfrm>
            <a:off x="390240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20"/>
          <p:cNvSpPr/>
          <p:nvPr/>
        </p:nvSpPr>
        <p:spPr>
          <a:xfrm flipH="1" flipV="1">
            <a:off x="4302000" y="6287760"/>
            <a:ext cx="14472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4792680" y="6168960"/>
            <a:ext cx="0" cy="1224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20"/>
          <p:cNvSpPr/>
          <p:nvPr/>
        </p:nvSpPr>
        <p:spPr>
          <a:xfrm>
            <a:off x="4437000" y="6159600"/>
            <a:ext cx="0" cy="1299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20"/>
          <p:cNvSpPr/>
          <p:nvPr/>
        </p:nvSpPr>
        <p:spPr>
          <a:xfrm flipH="1">
            <a:off x="4779720" y="6291360"/>
            <a:ext cx="145260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Line 20"/>
          <p:cNvSpPr/>
          <p:nvPr/>
        </p:nvSpPr>
        <p:spPr>
          <a:xfrm flipH="1" flipV="1">
            <a:off x="4422600" y="6171840"/>
            <a:ext cx="38592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20"/>
          <p:cNvSpPr/>
          <p:nvPr/>
        </p:nvSpPr>
        <p:spPr>
          <a:xfrm flipH="1">
            <a:off x="4314600" y="5859360"/>
            <a:ext cx="4680" cy="422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20"/>
          <p:cNvSpPr/>
          <p:nvPr/>
        </p:nvSpPr>
        <p:spPr>
          <a:xfrm flipH="1">
            <a:off x="6219720" y="5840280"/>
            <a:ext cx="5040" cy="463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Oval 84"/>
          <p:cNvSpPr/>
          <p:nvPr/>
        </p:nvSpPr>
        <p:spPr>
          <a:xfrm>
            <a:off x="6172200" y="614196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Oval 84"/>
          <p:cNvSpPr/>
          <p:nvPr/>
        </p:nvSpPr>
        <p:spPr>
          <a:xfrm>
            <a:off x="1712880" y="582624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1481040" y="605484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Oval 84"/>
          <p:cNvSpPr/>
          <p:nvPr/>
        </p:nvSpPr>
        <p:spPr>
          <a:xfrm>
            <a:off x="1481040" y="6246720"/>
            <a:ext cx="79560" cy="748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Oval 84"/>
          <p:cNvSpPr/>
          <p:nvPr/>
        </p:nvSpPr>
        <p:spPr>
          <a:xfrm>
            <a:off x="1601640" y="6246720"/>
            <a:ext cx="79560" cy="748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84"/>
          <p:cNvSpPr/>
          <p:nvPr/>
        </p:nvSpPr>
        <p:spPr>
          <a:xfrm>
            <a:off x="1717560" y="61419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Oval 84"/>
          <p:cNvSpPr/>
          <p:nvPr/>
        </p:nvSpPr>
        <p:spPr>
          <a:xfrm>
            <a:off x="1598760" y="6145200"/>
            <a:ext cx="7920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Oval 84"/>
          <p:cNvSpPr/>
          <p:nvPr/>
        </p:nvSpPr>
        <p:spPr>
          <a:xfrm>
            <a:off x="1727280" y="6251400"/>
            <a:ext cx="7920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Oval 84"/>
          <p:cNvSpPr/>
          <p:nvPr/>
        </p:nvSpPr>
        <p:spPr>
          <a:xfrm flipH="1">
            <a:off x="1960560" y="6251400"/>
            <a:ext cx="7632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Oval 84"/>
          <p:cNvSpPr/>
          <p:nvPr/>
        </p:nvSpPr>
        <p:spPr>
          <a:xfrm>
            <a:off x="1954080" y="6046920"/>
            <a:ext cx="79560" cy="727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560" bIns="7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Oval 84"/>
          <p:cNvSpPr/>
          <p:nvPr/>
        </p:nvSpPr>
        <p:spPr>
          <a:xfrm>
            <a:off x="1596960" y="5942160"/>
            <a:ext cx="79560" cy="745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Oval 84"/>
          <p:cNvSpPr/>
          <p:nvPr/>
        </p:nvSpPr>
        <p:spPr>
          <a:xfrm>
            <a:off x="1841400" y="593712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Oval 84"/>
          <p:cNvSpPr/>
          <p:nvPr/>
        </p:nvSpPr>
        <p:spPr>
          <a:xfrm>
            <a:off x="4276800" y="5829480"/>
            <a:ext cx="79200" cy="727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560" bIns="7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Oval 84"/>
          <p:cNvSpPr/>
          <p:nvPr/>
        </p:nvSpPr>
        <p:spPr>
          <a:xfrm>
            <a:off x="4286160" y="624348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Oval 84"/>
          <p:cNvSpPr/>
          <p:nvPr/>
        </p:nvSpPr>
        <p:spPr>
          <a:xfrm>
            <a:off x="4402080" y="624204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Oval 84"/>
          <p:cNvSpPr/>
          <p:nvPr/>
        </p:nvSpPr>
        <p:spPr>
          <a:xfrm>
            <a:off x="4398840" y="61293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Oval 84"/>
          <p:cNvSpPr/>
          <p:nvPr/>
        </p:nvSpPr>
        <p:spPr>
          <a:xfrm>
            <a:off x="4745160" y="6138720"/>
            <a:ext cx="7920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84"/>
          <p:cNvSpPr/>
          <p:nvPr/>
        </p:nvSpPr>
        <p:spPr>
          <a:xfrm>
            <a:off x="4751280" y="625320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Oval 84"/>
          <p:cNvSpPr/>
          <p:nvPr/>
        </p:nvSpPr>
        <p:spPr>
          <a:xfrm>
            <a:off x="6180120" y="62499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Oval 84"/>
          <p:cNvSpPr/>
          <p:nvPr/>
        </p:nvSpPr>
        <p:spPr>
          <a:xfrm>
            <a:off x="6167520" y="5824440"/>
            <a:ext cx="7920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Oval 84"/>
          <p:cNvSpPr/>
          <p:nvPr/>
        </p:nvSpPr>
        <p:spPr>
          <a:xfrm>
            <a:off x="5326200" y="5297400"/>
            <a:ext cx="777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Oval 84"/>
          <p:cNvSpPr/>
          <p:nvPr/>
        </p:nvSpPr>
        <p:spPr>
          <a:xfrm>
            <a:off x="4751280" y="450540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Oval 84"/>
          <p:cNvSpPr/>
          <p:nvPr/>
        </p:nvSpPr>
        <p:spPr>
          <a:xfrm>
            <a:off x="4389480" y="5300640"/>
            <a:ext cx="79200" cy="745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Oval 84"/>
          <p:cNvSpPr/>
          <p:nvPr/>
        </p:nvSpPr>
        <p:spPr>
          <a:xfrm>
            <a:off x="1774800" y="588168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Oval 84"/>
          <p:cNvSpPr/>
          <p:nvPr/>
        </p:nvSpPr>
        <p:spPr>
          <a:xfrm>
            <a:off x="1895400" y="59943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Oval 84"/>
          <p:cNvSpPr/>
          <p:nvPr/>
        </p:nvSpPr>
        <p:spPr>
          <a:xfrm>
            <a:off x="1658880" y="5884920"/>
            <a:ext cx="79560" cy="745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Oval 84"/>
          <p:cNvSpPr/>
          <p:nvPr/>
        </p:nvSpPr>
        <p:spPr>
          <a:xfrm>
            <a:off x="1541520" y="5994360"/>
            <a:ext cx="77760" cy="745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Oval 84"/>
          <p:cNvSpPr/>
          <p:nvPr/>
        </p:nvSpPr>
        <p:spPr>
          <a:xfrm>
            <a:off x="4307040" y="5594400"/>
            <a:ext cx="777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Oval 84"/>
          <p:cNvSpPr/>
          <p:nvPr/>
        </p:nvSpPr>
        <p:spPr>
          <a:xfrm>
            <a:off x="4548240" y="4943520"/>
            <a:ext cx="777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Oval 84"/>
          <p:cNvSpPr/>
          <p:nvPr/>
        </p:nvSpPr>
        <p:spPr>
          <a:xfrm>
            <a:off x="5025960" y="4950000"/>
            <a:ext cx="77760" cy="7272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560" bIns="7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Oval 84"/>
          <p:cNvSpPr/>
          <p:nvPr/>
        </p:nvSpPr>
        <p:spPr>
          <a:xfrm>
            <a:off x="5738760" y="5603760"/>
            <a:ext cx="79560" cy="73080"/>
          </a:xfrm>
          <a:prstGeom prst="ellipse">
            <a:avLst/>
          </a:prstGeom>
          <a:gradFill rotWithShape="0">
            <a:gsLst>
              <a:gs pos="0">
                <a:srgbClr val="009300"/>
              </a:gs>
              <a:gs pos="100000">
                <a:srgbClr val="00c700"/>
              </a:gs>
            </a:gsLst>
            <a:lin ang="16200000"/>
          </a:gra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2762280" y="2871720"/>
                <a:ext cx="54356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0" name="Text Box 4"/>
          <p:cNvSpPr/>
          <p:nvPr/>
        </p:nvSpPr>
        <p:spPr>
          <a:xfrm>
            <a:off x="1262160" y="2894040"/>
            <a:ext cx="19382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n icke-linjär avbildn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av </a:t>
            </a:r>
            <a:r>
              <a:rPr b="0" i="1" lang="sv-SE" sz="1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154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ctangle 155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Linjär avbildn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1262160" y="1255680"/>
            <a:ext cx="75420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arje linjär avbildningar kan göras med hjälp av matrismultiplikation, och omvänt gäller att varje avbildning som görs med matrismultiplikation är linjä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 exemplet på föregående sida där huset avbildades med en icke-linjär avbildning ser vi att husets tak blir böjt.  En egenskap för linjära avbildningar är att en rät linje avbildas som en rät linj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08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109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58920" y="297000"/>
            <a:ext cx="8424720" cy="58104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Isometriska avbildningar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88800" y="1163520"/>
            <a:ext cx="29498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har här tre avbildningar som bibehåller båtens mått. Sådana avbildningar kallas isometriska avbildning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9" name="Group 34"/>
          <p:cNvGrpSpPr/>
          <p:nvPr/>
        </p:nvGrpSpPr>
        <p:grpSpPr>
          <a:xfrm>
            <a:off x="7167240" y="1400040"/>
            <a:ext cx="1514880" cy="1376280"/>
            <a:chOff x="7167240" y="1400040"/>
            <a:chExt cx="1514880" cy="1376280"/>
          </a:xfrm>
        </p:grpSpPr>
        <p:sp>
          <p:nvSpPr>
            <p:cNvPr id="440" name="Line 22"/>
            <p:cNvSpPr/>
            <p:nvPr/>
          </p:nvSpPr>
          <p:spPr>
            <a:xfrm>
              <a:off x="7867440" y="1404720"/>
              <a:ext cx="0" cy="11448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Line 23"/>
            <p:cNvSpPr/>
            <p:nvPr/>
          </p:nvSpPr>
          <p:spPr>
            <a:xfrm flipH="1">
              <a:off x="7167240" y="2544480"/>
              <a:ext cx="700200" cy="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Line 24"/>
            <p:cNvSpPr/>
            <p:nvPr/>
          </p:nvSpPr>
          <p:spPr>
            <a:xfrm>
              <a:off x="7167240" y="2554200"/>
              <a:ext cx="324000" cy="2221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Line 25"/>
            <p:cNvSpPr/>
            <p:nvPr/>
          </p:nvSpPr>
          <p:spPr>
            <a:xfrm flipV="1">
              <a:off x="7504200" y="2761920"/>
              <a:ext cx="965160" cy="140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0240" bIns="-30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Line 27"/>
            <p:cNvSpPr/>
            <p:nvPr/>
          </p:nvSpPr>
          <p:spPr>
            <a:xfrm flipV="1">
              <a:off x="8469360" y="2671560"/>
              <a:ext cx="119160" cy="856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1400" bIns="414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Line 28"/>
            <p:cNvSpPr/>
            <p:nvPr/>
          </p:nvSpPr>
          <p:spPr>
            <a:xfrm flipV="1">
              <a:off x="8588520" y="2565000"/>
              <a:ext cx="66600" cy="1062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Line 29"/>
            <p:cNvSpPr/>
            <p:nvPr/>
          </p:nvSpPr>
          <p:spPr>
            <a:xfrm flipH="1">
              <a:off x="7938720" y="2549520"/>
              <a:ext cx="711360" cy="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Line 30"/>
            <p:cNvSpPr/>
            <p:nvPr/>
          </p:nvSpPr>
          <p:spPr>
            <a:xfrm flipV="1">
              <a:off x="7938720" y="2422080"/>
              <a:ext cx="0" cy="1270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31"/>
            <p:cNvSpPr/>
            <p:nvPr/>
          </p:nvSpPr>
          <p:spPr>
            <a:xfrm>
              <a:off x="7934400" y="2438280"/>
              <a:ext cx="747720" cy="46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9600" bIns="-396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32"/>
            <p:cNvSpPr/>
            <p:nvPr/>
          </p:nvSpPr>
          <p:spPr>
            <a:xfrm flipH="1" flipV="1">
              <a:off x="7872120" y="1400040"/>
              <a:ext cx="801720" cy="10476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0" name="Group 110"/>
          <p:cNvGrpSpPr/>
          <p:nvPr/>
        </p:nvGrpSpPr>
        <p:grpSpPr>
          <a:xfrm>
            <a:off x="3060720" y="1201680"/>
            <a:ext cx="2836800" cy="1581120"/>
            <a:chOff x="3060720" y="1201680"/>
            <a:chExt cx="2836800" cy="1581120"/>
          </a:xfrm>
        </p:grpSpPr>
        <p:sp>
          <p:nvSpPr>
            <p:cNvPr id="451" name="Text Box 21"/>
            <p:cNvSpPr/>
            <p:nvPr/>
          </p:nvSpPr>
          <p:spPr>
            <a:xfrm>
              <a:off x="3060720" y="1201680"/>
              <a:ext cx="1910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Spegl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2" name="Group 35"/>
            <p:cNvGrpSpPr/>
            <p:nvPr/>
          </p:nvGrpSpPr>
          <p:grpSpPr>
            <a:xfrm>
              <a:off x="4382640" y="1406520"/>
              <a:ext cx="1514880" cy="1376280"/>
              <a:chOff x="4382640" y="1406520"/>
              <a:chExt cx="1514880" cy="1376280"/>
            </a:xfrm>
          </p:grpSpPr>
          <p:sp>
            <p:nvSpPr>
              <p:cNvPr id="453" name="Line 36"/>
              <p:cNvSpPr/>
              <p:nvPr/>
            </p:nvSpPr>
            <p:spPr>
              <a:xfrm>
                <a:off x="5197320" y="141120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4" name="Line 37"/>
              <p:cNvSpPr/>
              <p:nvPr/>
            </p:nvSpPr>
            <p:spPr>
              <a:xfrm>
                <a:off x="5197320" y="255096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Line 38"/>
              <p:cNvSpPr/>
              <p:nvPr/>
            </p:nvSpPr>
            <p:spPr>
              <a:xfrm flipH="1">
                <a:off x="5573520" y="256068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6" name="Line 39"/>
              <p:cNvSpPr/>
              <p:nvPr/>
            </p:nvSpPr>
            <p:spPr>
              <a:xfrm flipH="1" flipV="1">
                <a:off x="4595400" y="276840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Line 40"/>
              <p:cNvSpPr/>
              <p:nvPr/>
            </p:nvSpPr>
            <p:spPr>
              <a:xfrm flipH="1" flipV="1">
                <a:off x="4476240" y="267804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8" name="Line 41"/>
              <p:cNvSpPr/>
              <p:nvPr/>
            </p:nvSpPr>
            <p:spPr>
              <a:xfrm flipH="1" flipV="1">
                <a:off x="4409640" y="257148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9" name="Line 42"/>
              <p:cNvSpPr/>
              <p:nvPr/>
            </p:nvSpPr>
            <p:spPr>
              <a:xfrm>
                <a:off x="4414680" y="255600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0" name="Line 43"/>
              <p:cNvSpPr/>
              <p:nvPr/>
            </p:nvSpPr>
            <p:spPr>
              <a:xfrm flipV="1">
                <a:off x="5126040" y="242856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1" name="Line 44"/>
              <p:cNvSpPr/>
              <p:nvPr/>
            </p:nvSpPr>
            <p:spPr>
              <a:xfrm flipH="1">
                <a:off x="4382640" y="244476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2" name="Line 45"/>
              <p:cNvSpPr/>
              <p:nvPr/>
            </p:nvSpPr>
            <p:spPr>
              <a:xfrm flipV="1">
                <a:off x="4390920" y="140652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63" name="Group 111"/>
          <p:cNvGrpSpPr/>
          <p:nvPr/>
        </p:nvGrpSpPr>
        <p:grpSpPr>
          <a:xfrm>
            <a:off x="5423760" y="1371600"/>
            <a:ext cx="2254320" cy="1857960"/>
            <a:chOff x="5423760" y="1371600"/>
            <a:chExt cx="2254320" cy="1857960"/>
          </a:xfrm>
        </p:grpSpPr>
        <p:sp>
          <p:nvSpPr>
            <p:cNvPr id="464" name="Line 46"/>
            <p:cNvSpPr/>
            <p:nvPr/>
          </p:nvSpPr>
          <p:spPr>
            <a:xfrm>
              <a:off x="6548400" y="1371600"/>
              <a:ext cx="9720" cy="13906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Text Box 47"/>
            <p:cNvSpPr/>
            <p:nvPr/>
          </p:nvSpPr>
          <p:spPr>
            <a:xfrm>
              <a:off x="5423760" y="2897280"/>
              <a:ext cx="22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Speglings-linj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6" name="Group 112"/>
          <p:cNvGrpSpPr/>
          <p:nvPr/>
        </p:nvGrpSpPr>
        <p:grpSpPr>
          <a:xfrm>
            <a:off x="3146760" y="3127320"/>
            <a:ext cx="2966760" cy="1376280"/>
            <a:chOff x="3146760" y="3127320"/>
            <a:chExt cx="2966760" cy="1376280"/>
          </a:xfrm>
        </p:grpSpPr>
        <p:sp>
          <p:nvSpPr>
            <p:cNvPr id="467" name="Text Box 48"/>
            <p:cNvSpPr/>
            <p:nvPr/>
          </p:nvSpPr>
          <p:spPr>
            <a:xfrm>
              <a:off x="3146760" y="3243240"/>
              <a:ext cx="1882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Rot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8" name="Group 60"/>
            <p:cNvGrpSpPr/>
            <p:nvPr/>
          </p:nvGrpSpPr>
          <p:grpSpPr>
            <a:xfrm>
              <a:off x="4598640" y="3127320"/>
              <a:ext cx="1514880" cy="1376280"/>
              <a:chOff x="4598640" y="3127320"/>
              <a:chExt cx="1514880" cy="1376280"/>
            </a:xfrm>
          </p:grpSpPr>
          <p:sp>
            <p:nvSpPr>
              <p:cNvPr id="469" name="Line 61"/>
              <p:cNvSpPr/>
              <p:nvPr/>
            </p:nvSpPr>
            <p:spPr>
              <a:xfrm>
                <a:off x="5413320" y="313200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0" name="Line 62"/>
              <p:cNvSpPr/>
              <p:nvPr/>
            </p:nvSpPr>
            <p:spPr>
              <a:xfrm>
                <a:off x="5413320" y="427176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1" name="Line 63"/>
              <p:cNvSpPr/>
              <p:nvPr/>
            </p:nvSpPr>
            <p:spPr>
              <a:xfrm flipH="1">
                <a:off x="5789520" y="428148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Line 64"/>
              <p:cNvSpPr/>
              <p:nvPr/>
            </p:nvSpPr>
            <p:spPr>
              <a:xfrm flipH="1" flipV="1">
                <a:off x="4811400" y="448920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3" name="Line 65"/>
              <p:cNvSpPr/>
              <p:nvPr/>
            </p:nvSpPr>
            <p:spPr>
              <a:xfrm flipH="1" flipV="1">
                <a:off x="4692240" y="439884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4" name="Line 66"/>
              <p:cNvSpPr/>
              <p:nvPr/>
            </p:nvSpPr>
            <p:spPr>
              <a:xfrm flipH="1" flipV="1">
                <a:off x="4625640" y="429228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Line 67"/>
              <p:cNvSpPr/>
              <p:nvPr/>
            </p:nvSpPr>
            <p:spPr>
              <a:xfrm>
                <a:off x="4630680" y="427680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Line 68"/>
              <p:cNvSpPr/>
              <p:nvPr/>
            </p:nvSpPr>
            <p:spPr>
              <a:xfrm flipV="1">
                <a:off x="5342040" y="414936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Line 69"/>
              <p:cNvSpPr/>
              <p:nvPr/>
            </p:nvSpPr>
            <p:spPr>
              <a:xfrm flipH="1">
                <a:off x="4598640" y="416556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Line 70"/>
              <p:cNvSpPr/>
              <p:nvPr/>
            </p:nvSpPr>
            <p:spPr>
              <a:xfrm flipV="1">
                <a:off x="4606920" y="312732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79" name="Group 73"/>
          <p:cNvGrpSpPr/>
          <p:nvPr/>
        </p:nvGrpSpPr>
        <p:grpSpPr>
          <a:xfrm>
            <a:off x="4550400" y="3150720"/>
            <a:ext cx="1497240" cy="1465200"/>
            <a:chOff x="4550400" y="3150720"/>
            <a:chExt cx="1497240" cy="1465200"/>
          </a:xfrm>
        </p:grpSpPr>
        <p:sp>
          <p:nvSpPr>
            <p:cNvPr id="480" name="Line 74"/>
            <p:cNvSpPr/>
            <p:nvPr/>
          </p:nvSpPr>
          <p:spPr>
            <a:xfrm>
              <a:off x="5092200" y="3153960"/>
              <a:ext cx="274680" cy="11113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 flipV="1">
              <a:off x="5365800" y="4092480"/>
              <a:ext cx="679680" cy="1681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 flipH="1">
              <a:off x="5786640" y="4101840"/>
              <a:ext cx="261000" cy="2934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 flipH="1">
              <a:off x="4833720" y="4398120"/>
              <a:ext cx="940320" cy="2178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 flipH="1" flipV="1">
              <a:off x="4696200" y="4556880"/>
              <a:ext cx="136440" cy="5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0440" bIns="10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 flipH="1" flipV="1">
              <a:off x="4605840" y="4469400"/>
              <a:ext cx="90360" cy="871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2840" bIns="428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 flipV="1">
              <a:off x="4607280" y="4282560"/>
              <a:ext cx="690480" cy="1706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 flipH="1" flipV="1">
              <a:off x="5267160" y="4158720"/>
              <a:ext cx="30600" cy="1234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4550400" y="4173480"/>
              <a:ext cx="724680" cy="18396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 flipV="1">
              <a:off x="4559760" y="3150720"/>
              <a:ext cx="526680" cy="12092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0" name="Group 113"/>
          <p:cNvGrpSpPr/>
          <p:nvPr/>
        </p:nvGrpSpPr>
        <p:grpSpPr>
          <a:xfrm>
            <a:off x="4309200" y="4467240"/>
            <a:ext cx="2394720" cy="616320"/>
            <a:chOff x="4309200" y="4467240"/>
            <a:chExt cx="2394720" cy="616320"/>
          </a:xfrm>
        </p:grpSpPr>
        <p:sp>
          <p:nvSpPr>
            <p:cNvPr id="491" name="Text Box 72"/>
            <p:cNvSpPr/>
            <p:nvPr/>
          </p:nvSpPr>
          <p:spPr>
            <a:xfrm>
              <a:off x="4309200" y="4751280"/>
              <a:ext cx="2394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Rotations-punk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Oval 84"/>
            <p:cNvSpPr/>
            <p:nvPr/>
          </p:nvSpPr>
          <p:spPr>
            <a:xfrm>
              <a:off x="5272200" y="4467240"/>
              <a:ext cx="88920" cy="8856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360" bIns="1836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3" name="Group 114"/>
          <p:cNvGrpSpPr/>
          <p:nvPr/>
        </p:nvGrpSpPr>
        <p:grpSpPr>
          <a:xfrm>
            <a:off x="3230280" y="5210280"/>
            <a:ext cx="3098880" cy="1376280"/>
            <a:chOff x="3230280" y="5210280"/>
            <a:chExt cx="3098880" cy="1376280"/>
          </a:xfrm>
        </p:grpSpPr>
        <p:grpSp>
          <p:nvGrpSpPr>
            <p:cNvPr id="494" name="Group 85"/>
            <p:cNvGrpSpPr/>
            <p:nvPr/>
          </p:nvGrpSpPr>
          <p:grpSpPr>
            <a:xfrm>
              <a:off x="4814280" y="5210280"/>
              <a:ext cx="1514880" cy="1376280"/>
              <a:chOff x="4814280" y="5210280"/>
              <a:chExt cx="1514880" cy="1376280"/>
            </a:xfrm>
          </p:grpSpPr>
          <p:sp>
            <p:nvSpPr>
              <p:cNvPr id="495" name="Line 86"/>
              <p:cNvSpPr/>
              <p:nvPr/>
            </p:nvSpPr>
            <p:spPr>
              <a:xfrm>
                <a:off x="5628960" y="521496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Line 87"/>
              <p:cNvSpPr/>
              <p:nvPr/>
            </p:nvSpPr>
            <p:spPr>
              <a:xfrm>
                <a:off x="5628960" y="635472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Line 88"/>
              <p:cNvSpPr/>
              <p:nvPr/>
            </p:nvSpPr>
            <p:spPr>
              <a:xfrm flipH="1">
                <a:off x="6005160" y="636444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Line 89"/>
              <p:cNvSpPr/>
              <p:nvPr/>
            </p:nvSpPr>
            <p:spPr>
              <a:xfrm flipH="1" flipV="1">
                <a:off x="5027040" y="657216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9" name="Line 90"/>
              <p:cNvSpPr/>
              <p:nvPr/>
            </p:nvSpPr>
            <p:spPr>
              <a:xfrm flipH="1" flipV="1">
                <a:off x="4907880" y="648180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0" name="Line 91"/>
              <p:cNvSpPr/>
              <p:nvPr/>
            </p:nvSpPr>
            <p:spPr>
              <a:xfrm flipH="1" flipV="1">
                <a:off x="4841280" y="637524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Line 92"/>
              <p:cNvSpPr/>
              <p:nvPr/>
            </p:nvSpPr>
            <p:spPr>
              <a:xfrm>
                <a:off x="4846320" y="635976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Line 93"/>
              <p:cNvSpPr/>
              <p:nvPr/>
            </p:nvSpPr>
            <p:spPr>
              <a:xfrm flipV="1">
                <a:off x="5557680" y="623232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Line 94"/>
              <p:cNvSpPr/>
              <p:nvPr/>
            </p:nvSpPr>
            <p:spPr>
              <a:xfrm flipH="1">
                <a:off x="4814280" y="624852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4" name="Line 95"/>
              <p:cNvSpPr/>
              <p:nvPr/>
            </p:nvSpPr>
            <p:spPr>
              <a:xfrm flipV="1">
                <a:off x="4822560" y="521028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5" name="Text Box 96"/>
            <p:cNvSpPr/>
            <p:nvPr/>
          </p:nvSpPr>
          <p:spPr>
            <a:xfrm>
              <a:off x="3230280" y="5281560"/>
              <a:ext cx="221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6" name="Group 115"/>
          <p:cNvGrpSpPr/>
          <p:nvPr/>
        </p:nvGrpSpPr>
        <p:grpSpPr>
          <a:xfrm>
            <a:off x="5436720" y="5226120"/>
            <a:ext cx="3360960" cy="1376280"/>
            <a:chOff x="5436720" y="5226120"/>
            <a:chExt cx="3360960" cy="1376280"/>
          </a:xfrm>
        </p:grpSpPr>
        <p:grpSp>
          <p:nvGrpSpPr>
            <p:cNvPr id="507" name="Group 97"/>
            <p:cNvGrpSpPr/>
            <p:nvPr/>
          </p:nvGrpSpPr>
          <p:grpSpPr>
            <a:xfrm>
              <a:off x="7282800" y="5226120"/>
              <a:ext cx="1514880" cy="1376280"/>
              <a:chOff x="7282800" y="5226120"/>
              <a:chExt cx="1514880" cy="1376280"/>
            </a:xfrm>
          </p:grpSpPr>
          <p:sp>
            <p:nvSpPr>
              <p:cNvPr id="508" name="Line 98"/>
              <p:cNvSpPr/>
              <p:nvPr/>
            </p:nvSpPr>
            <p:spPr>
              <a:xfrm>
                <a:off x="8097480" y="5230800"/>
                <a:ext cx="0" cy="114480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9" name="Line 99"/>
              <p:cNvSpPr/>
              <p:nvPr/>
            </p:nvSpPr>
            <p:spPr>
              <a:xfrm>
                <a:off x="8097480" y="6370560"/>
                <a:ext cx="70020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0" name="Line 100"/>
              <p:cNvSpPr/>
              <p:nvPr/>
            </p:nvSpPr>
            <p:spPr>
              <a:xfrm flipH="1">
                <a:off x="8473680" y="6380280"/>
                <a:ext cx="324000" cy="2221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Line 101"/>
              <p:cNvSpPr/>
              <p:nvPr/>
            </p:nvSpPr>
            <p:spPr>
              <a:xfrm flipH="1" flipV="1">
                <a:off x="7495560" y="6588000"/>
                <a:ext cx="965160" cy="140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2" name="Line 102"/>
              <p:cNvSpPr/>
              <p:nvPr/>
            </p:nvSpPr>
            <p:spPr>
              <a:xfrm flipH="1" flipV="1">
                <a:off x="7376400" y="6497640"/>
                <a:ext cx="119160" cy="856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3" name="Line 103"/>
              <p:cNvSpPr/>
              <p:nvPr/>
            </p:nvSpPr>
            <p:spPr>
              <a:xfrm flipH="1" flipV="1">
                <a:off x="7309800" y="6391080"/>
                <a:ext cx="66600" cy="10620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Line 104"/>
              <p:cNvSpPr/>
              <p:nvPr/>
            </p:nvSpPr>
            <p:spPr>
              <a:xfrm>
                <a:off x="7314840" y="6375600"/>
                <a:ext cx="71136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Line 105"/>
              <p:cNvSpPr/>
              <p:nvPr/>
            </p:nvSpPr>
            <p:spPr>
              <a:xfrm flipV="1">
                <a:off x="8026200" y="6248160"/>
                <a:ext cx="0" cy="1270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6" name="Line 106"/>
              <p:cNvSpPr/>
              <p:nvPr/>
            </p:nvSpPr>
            <p:spPr>
              <a:xfrm flipH="1">
                <a:off x="7282800" y="6264360"/>
                <a:ext cx="747720" cy="46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7" name="Line 107"/>
              <p:cNvSpPr/>
              <p:nvPr/>
            </p:nvSpPr>
            <p:spPr>
              <a:xfrm flipV="1">
                <a:off x="7291080" y="5226120"/>
                <a:ext cx="801720" cy="104760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8" name="Text Box 108"/>
            <p:cNvSpPr/>
            <p:nvPr/>
          </p:nvSpPr>
          <p:spPr>
            <a:xfrm>
              <a:off x="5436720" y="5373720"/>
              <a:ext cx="254700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Ingen gemensam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punk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9" name="Rectangle 245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ectangle 246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2D&amp;3D - modeller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404640" y="1474920"/>
            <a:ext cx="71866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Genom att utnyttja dessa tre isometriska operati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ch sammansättningar av dem kan vi fullt ut beskr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hur objekt rör si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pegling i linje som går igenom ori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otation runt ori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3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erna ovan kan även utvidgas så att de görs i 3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2D - modeller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347760" y="1074600"/>
            <a:ext cx="663732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emp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åt (2D) som rör sig genom</a:t>
            </a:r>
            <a:br>
              <a:rPr sz="2000"/>
            </a:b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ammansättning a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ranslation längs li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otation runt pun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tel gubbe (2D) som dyker i vatt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ranslation längs kur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otation runt pun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7" name="Group 80"/>
          <p:cNvGrpSpPr/>
          <p:nvPr/>
        </p:nvGrpSpPr>
        <p:grpSpPr>
          <a:xfrm>
            <a:off x="5768640" y="1187280"/>
            <a:ext cx="1514880" cy="1376280"/>
            <a:chOff x="5768640" y="1187280"/>
            <a:chExt cx="1514880" cy="1376280"/>
          </a:xfrm>
        </p:grpSpPr>
        <p:sp>
          <p:nvSpPr>
            <p:cNvPr id="528" name="Line 81"/>
            <p:cNvSpPr/>
            <p:nvPr/>
          </p:nvSpPr>
          <p:spPr>
            <a:xfrm>
              <a:off x="6583320" y="1191960"/>
              <a:ext cx="0" cy="11448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Line 82"/>
            <p:cNvSpPr/>
            <p:nvPr/>
          </p:nvSpPr>
          <p:spPr>
            <a:xfrm>
              <a:off x="6583320" y="2331720"/>
              <a:ext cx="700200" cy="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Line 83"/>
            <p:cNvSpPr/>
            <p:nvPr/>
          </p:nvSpPr>
          <p:spPr>
            <a:xfrm flipH="1">
              <a:off x="6959520" y="2341440"/>
              <a:ext cx="324000" cy="22212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Line 84"/>
            <p:cNvSpPr/>
            <p:nvPr/>
          </p:nvSpPr>
          <p:spPr>
            <a:xfrm flipH="1" flipV="1">
              <a:off x="5981400" y="2549160"/>
              <a:ext cx="965160" cy="1404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0240" bIns="-30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Line 85"/>
            <p:cNvSpPr/>
            <p:nvPr/>
          </p:nvSpPr>
          <p:spPr>
            <a:xfrm flipH="1" flipV="1">
              <a:off x="5862240" y="2458800"/>
              <a:ext cx="119160" cy="856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1400" bIns="414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Line 86"/>
            <p:cNvSpPr/>
            <p:nvPr/>
          </p:nvSpPr>
          <p:spPr>
            <a:xfrm flipH="1" flipV="1">
              <a:off x="5795640" y="2352240"/>
              <a:ext cx="66600" cy="1062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Line 87"/>
            <p:cNvSpPr/>
            <p:nvPr/>
          </p:nvSpPr>
          <p:spPr>
            <a:xfrm>
              <a:off x="5800680" y="2336760"/>
              <a:ext cx="711360" cy="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Line 88"/>
            <p:cNvSpPr/>
            <p:nvPr/>
          </p:nvSpPr>
          <p:spPr>
            <a:xfrm flipV="1">
              <a:off x="6512040" y="2209320"/>
              <a:ext cx="0" cy="1270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Line 89"/>
            <p:cNvSpPr/>
            <p:nvPr/>
          </p:nvSpPr>
          <p:spPr>
            <a:xfrm flipH="1">
              <a:off x="5768640" y="2225520"/>
              <a:ext cx="747720" cy="46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9600" bIns="-396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Line 90"/>
            <p:cNvSpPr/>
            <p:nvPr/>
          </p:nvSpPr>
          <p:spPr>
            <a:xfrm flipV="1">
              <a:off x="5776920" y="1187280"/>
              <a:ext cx="801720" cy="10476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8" name="Group 92"/>
          <p:cNvGrpSpPr/>
          <p:nvPr/>
        </p:nvGrpSpPr>
        <p:grpSpPr>
          <a:xfrm>
            <a:off x="5634720" y="1201680"/>
            <a:ext cx="1518840" cy="1393920"/>
            <a:chOff x="5634720" y="1201680"/>
            <a:chExt cx="1518840" cy="1393920"/>
          </a:xfrm>
        </p:grpSpPr>
        <p:sp>
          <p:nvSpPr>
            <p:cNvPr id="539" name="Line 93"/>
            <p:cNvSpPr/>
            <p:nvPr/>
          </p:nvSpPr>
          <p:spPr>
            <a:xfrm>
              <a:off x="6388560" y="1206000"/>
              <a:ext cx="65520" cy="11430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Line 94"/>
            <p:cNvSpPr/>
            <p:nvPr/>
          </p:nvSpPr>
          <p:spPr>
            <a:xfrm flipV="1">
              <a:off x="6453720" y="2304000"/>
              <a:ext cx="699120" cy="3996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320" bIns="-4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Line 95"/>
            <p:cNvSpPr/>
            <p:nvPr/>
          </p:nvSpPr>
          <p:spPr>
            <a:xfrm flipH="1">
              <a:off x="6842520" y="2313360"/>
              <a:ext cx="311040" cy="2404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Line 96"/>
            <p:cNvSpPr/>
            <p:nvPr/>
          </p:nvSpPr>
          <p:spPr>
            <a:xfrm flipH="1">
              <a:off x="5865480" y="2554200"/>
              <a:ext cx="964080" cy="414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2880" bIns="-2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Line 97"/>
            <p:cNvSpPr/>
            <p:nvPr/>
          </p:nvSpPr>
          <p:spPr>
            <a:xfrm flipH="1" flipV="1">
              <a:off x="5741280" y="2512080"/>
              <a:ext cx="123840" cy="788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4560" bIns="345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Line 98"/>
            <p:cNvSpPr/>
            <p:nvPr/>
          </p:nvSpPr>
          <p:spPr>
            <a:xfrm flipH="1" flipV="1">
              <a:off x="5668560" y="2409480"/>
              <a:ext cx="72720" cy="1022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Line 99"/>
            <p:cNvSpPr/>
            <p:nvPr/>
          </p:nvSpPr>
          <p:spPr>
            <a:xfrm flipV="1">
              <a:off x="5672880" y="2352960"/>
              <a:ext cx="709920" cy="406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600" bIns="-36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Line 100"/>
            <p:cNvSpPr/>
            <p:nvPr/>
          </p:nvSpPr>
          <p:spPr>
            <a:xfrm flipH="1" flipV="1">
              <a:off x="6375600" y="2225880"/>
              <a:ext cx="7200" cy="126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Line 101"/>
            <p:cNvSpPr/>
            <p:nvPr/>
          </p:nvSpPr>
          <p:spPr>
            <a:xfrm flipH="1">
              <a:off x="5634720" y="2241720"/>
              <a:ext cx="746280" cy="475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40" bIns="3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Line 102"/>
            <p:cNvSpPr/>
            <p:nvPr/>
          </p:nvSpPr>
          <p:spPr>
            <a:xfrm flipV="1">
              <a:off x="5643360" y="1201680"/>
              <a:ext cx="740160" cy="10915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9" name="Oval 103"/>
          <p:cNvSpPr/>
          <p:nvPr/>
        </p:nvSpPr>
        <p:spPr>
          <a:xfrm>
            <a:off x="6337440" y="2527200"/>
            <a:ext cx="88920" cy="8892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04"/>
          <p:cNvSpPr/>
          <p:nvPr/>
        </p:nvSpPr>
        <p:spPr>
          <a:xfrm>
            <a:off x="7010280" y="4705200"/>
            <a:ext cx="1895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05"/>
          <p:cNvSpPr/>
          <p:nvPr/>
        </p:nvSpPr>
        <p:spPr>
          <a:xfrm>
            <a:off x="3333600" y="6010200"/>
            <a:ext cx="429588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Oval 106"/>
          <p:cNvSpPr/>
          <p:nvPr/>
        </p:nvSpPr>
        <p:spPr>
          <a:xfrm>
            <a:off x="6705720" y="3305160"/>
            <a:ext cx="218880" cy="247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Oval 107"/>
          <p:cNvSpPr/>
          <p:nvPr/>
        </p:nvSpPr>
        <p:spPr>
          <a:xfrm rot="20367600">
            <a:off x="6857640" y="3533760"/>
            <a:ext cx="257040" cy="5716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Oval 108"/>
          <p:cNvSpPr/>
          <p:nvPr/>
        </p:nvSpPr>
        <p:spPr>
          <a:xfrm>
            <a:off x="7020000" y="4076640"/>
            <a:ext cx="108000" cy="5335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Oval 109"/>
          <p:cNvSpPr/>
          <p:nvPr/>
        </p:nvSpPr>
        <p:spPr>
          <a:xfrm>
            <a:off x="6972480" y="4600440"/>
            <a:ext cx="142560" cy="889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720" bIns="1872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Oval 110"/>
          <p:cNvSpPr/>
          <p:nvPr/>
        </p:nvSpPr>
        <p:spPr>
          <a:xfrm rot="618000">
            <a:off x="6335640" y="3530520"/>
            <a:ext cx="569880" cy="936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1960" bIns="2196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11"/>
          <p:cNvSpPr/>
          <p:nvPr/>
        </p:nvSpPr>
        <p:spPr>
          <a:xfrm>
            <a:off x="4387680" y="2577960"/>
            <a:ext cx="429588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Text Box 112"/>
          <p:cNvSpPr/>
          <p:nvPr/>
        </p:nvSpPr>
        <p:spPr>
          <a:xfrm>
            <a:off x="4948920" y="6249960"/>
            <a:ext cx="428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Återkommer senare till mer detalj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Rectangle 35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36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58920" y="302760"/>
            <a:ext cx="8424720" cy="5670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100" spc="-1" strike="noStrike">
                <a:solidFill>
                  <a:srgbClr val="000000"/>
                </a:solidFill>
                <a:latin typeface="Verdana"/>
              </a:rPr>
              <a:t>Icke-isometriska linjära avbildningar</a:t>
            </a:r>
            <a:endParaRPr b="1" i="1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Group 78"/>
          <p:cNvGrpSpPr/>
          <p:nvPr/>
        </p:nvGrpSpPr>
        <p:grpSpPr>
          <a:xfrm>
            <a:off x="451080" y="2384280"/>
            <a:ext cx="4041720" cy="1376280"/>
            <a:chOff x="451080" y="2384280"/>
            <a:chExt cx="4041720" cy="1376280"/>
          </a:xfrm>
        </p:grpSpPr>
        <p:sp>
          <p:nvSpPr>
            <p:cNvPr id="563" name="Text Box 3"/>
            <p:cNvSpPr/>
            <p:nvPr/>
          </p:nvSpPr>
          <p:spPr>
            <a:xfrm>
              <a:off x="451080" y="2966760"/>
              <a:ext cx="1888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Skaln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4" name="Group 15"/>
            <p:cNvGrpSpPr/>
            <p:nvPr/>
          </p:nvGrpSpPr>
          <p:grpSpPr>
            <a:xfrm>
              <a:off x="2977920" y="2384280"/>
              <a:ext cx="1514880" cy="1376280"/>
              <a:chOff x="2977920" y="2384280"/>
              <a:chExt cx="1514880" cy="1376280"/>
            </a:xfrm>
          </p:grpSpPr>
          <p:sp>
            <p:nvSpPr>
              <p:cNvPr id="565" name="Line 16"/>
              <p:cNvSpPr/>
              <p:nvPr/>
            </p:nvSpPr>
            <p:spPr>
              <a:xfrm>
                <a:off x="3792600" y="238896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Line 17"/>
              <p:cNvSpPr/>
              <p:nvPr/>
            </p:nvSpPr>
            <p:spPr>
              <a:xfrm>
                <a:off x="3792600" y="352872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Line 18"/>
              <p:cNvSpPr/>
              <p:nvPr/>
            </p:nvSpPr>
            <p:spPr>
              <a:xfrm flipH="1">
                <a:off x="4168800" y="353844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Line 19"/>
              <p:cNvSpPr/>
              <p:nvPr/>
            </p:nvSpPr>
            <p:spPr>
              <a:xfrm flipH="1" flipV="1">
                <a:off x="3190680" y="374616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9" name="Line 20"/>
              <p:cNvSpPr/>
              <p:nvPr/>
            </p:nvSpPr>
            <p:spPr>
              <a:xfrm flipH="1" flipV="1">
                <a:off x="3071520" y="365580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0" name="Line 21"/>
              <p:cNvSpPr/>
              <p:nvPr/>
            </p:nvSpPr>
            <p:spPr>
              <a:xfrm flipH="1" flipV="1">
                <a:off x="3004920" y="354924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Line 22"/>
              <p:cNvSpPr/>
              <p:nvPr/>
            </p:nvSpPr>
            <p:spPr>
              <a:xfrm>
                <a:off x="3009960" y="353376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Line 23"/>
              <p:cNvSpPr/>
              <p:nvPr/>
            </p:nvSpPr>
            <p:spPr>
              <a:xfrm flipV="1">
                <a:off x="3721320" y="340632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Line 24"/>
              <p:cNvSpPr/>
              <p:nvPr/>
            </p:nvSpPr>
            <p:spPr>
              <a:xfrm flipH="1">
                <a:off x="2977920" y="342252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4" name="Line 25"/>
              <p:cNvSpPr/>
              <p:nvPr/>
            </p:nvSpPr>
            <p:spPr>
              <a:xfrm flipV="1">
                <a:off x="2986200" y="238428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75" name="Group 79"/>
          <p:cNvGrpSpPr/>
          <p:nvPr/>
        </p:nvGrpSpPr>
        <p:grpSpPr>
          <a:xfrm>
            <a:off x="4029120" y="2377800"/>
            <a:ext cx="3771360" cy="1829160"/>
            <a:chOff x="4029120" y="2377800"/>
            <a:chExt cx="3771360" cy="1829160"/>
          </a:xfrm>
        </p:grpSpPr>
        <p:grpSp>
          <p:nvGrpSpPr>
            <p:cNvPr id="576" name="Group 4"/>
            <p:cNvGrpSpPr/>
            <p:nvPr/>
          </p:nvGrpSpPr>
          <p:grpSpPr>
            <a:xfrm>
              <a:off x="5153040" y="2377800"/>
              <a:ext cx="2647440" cy="1375920"/>
              <a:chOff x="5153040" y="2377800"/>
              <a:chExt cx="2647440" cy="1375920"/>
            </a:xfrm>
          </p:grpSpPr>
          <p:sp>
            <p:nvSpPr>
              <p:cNvPr id="577" name="Line 5"/>
              <p:cNvSpPr/>
              <p:nvPr/>
            </p:nvSpPr>
            <p:spPr>
              <a:xfrm>
                <a:off x="6576480" y="2382480"/>
                <a:ext cx="0" cy="11444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Line 6"/>
              <p:cNvSpPr/>
              <p:nvPr/>
            </p:nvSpPr>
            <p:spPr>
              <a:xfrm>
                <a:off x="6576480" y="3522240"/>
                <a:ext cx="122400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9" name="Line 7"/>
              <p:cNvSpPr/>
              <p:nvPr/>
            </p:nvSpPr>
            <p:spPr>
              <a:xfrm flipH="1">
                <a:off x="7233480" y="3531960"/>
                <a:ext cx="566280" cy="2217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 flipH="1" flipV="1">
                <a:off x="5524920" y="3740040"/>
                <a:ext cx="1686960" cy="136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600" bIns="-30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 flipH="1" flipV="1">
                <a:off x="5316480" y="3648960"/>
                <a:ext cx="208080" cy="853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040" bIns="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2" name="Line 10"/>
              <p:cNvSpPr/>
              <p:nvPr/>
            </p:nvSpPr>
            <p:spPr>
              <a:xfrm flipH="1" flipV="1">
                <a:off x="5199840" y="3543120"/>
                <a:ext cx="116280" cy="1058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3" name="Line 11"/>
              <p:cNvSpPr/>
              <p:nvPr/>
            </p:nvSpPr>
            <p:spPr>
              <a:xfrm>
                <a:off x="5208120" y="3527280"/>
                <a:ext cx="124344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Line 12"/>
              <p:cNvSpPr/>
              <p:nvPr/>
            </p:nvSpPr>
            <p:spPr>
              <a:xfrm flipV="1">
                <a:off x="6451920" y="3400200"/>
                <a:ext cx="0" cy="1267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5" name="Line 13"/>
              <p:cNvSpPr/>
              <p:nvPr/>
            </p:nvSpPr>
            <p:spPr>
              <a:xfrm flipH="1">
                <a:off x="5153040" y="3416040"/>
                <a:ext cx="1306800" cy="43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960" bIns="-399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6" name="Line 14"/>
              <p:cNvSpPr/>
              <p:nvPr/>
            </p:nvSpPr>
            <p:spPr>
              <a:xfrm flipV="1">
                <a:off x="5166720" y="2377800"/>
                <a:ext cx="1401480" cy="10472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87" name="Text Box 27"/>
            <p:cNvSpPr/>
            <p:nvPr/>
          </p:nvSpPr>
          <p:spPr>
            <a:xfrm>
              <a:off x="4029120" y="3874680"/>
              <a:ext cx="2643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Skalning i längsle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8" name="Group 80"/>
          <p:cNvGrpSpPr/>
          <p:nvPr/>
        </p:nvGrpSpPr>
        <p:grpSpPr>
          <a:xfrm>
            <a:off x="484200" y="4305240"/>
            <a:ext cx="4224240" cy="1376280"/>
            <a:chOff x="484200" y="4305240"/>
            <a:chExt cx="4224240" cy="1376280"/>
          </a:xfrm>
        </p:grpSpPr>
        <p:sp>
          <p:nvSpPr>
            <p:cNvPr id="589" name="Text Box 28"/>
            <p:cNvSpPr/>
            <p:nvPr/>
          </p:nvSpPr>
          <p:spPr>
            <a:xfrm>
              <a:off x="484200" y="4964040"/>
              <a:ext cx="1952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Skevn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0" name="Group 29"/>
            <p:cNvGrpSpPr/>
            <p:nvPr/>
          </p:nvGrpSpPr>
          <p:grpSpPr>
            <a:xfrm>
              <a:off x="3193560" y="4305240"/>
              <a:ext cx="1514880" cy="1376280"/>
              <a:chOff x="3193560" y="4305240"/>
              <a:chExt cx="1514880" cy="1376280"/>
            </a:xfrm>
          </p:grpSpPr>
          <p:sp>
            <p:nvSpPr>
              <p:cNvPr id="591" name="Line 30"/>
              <p:cNvSpPr/>
              <p:nvPr/>
            </p:nvSpPr>
            <p:spPr>
              <a:xfrm>
                <a:off x="4008240" y="4309920"/>
                <a:ext cx="0" cy="11448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2" name="Line 31"/>
              <p:cNvSpPr/>
              <p:nvPr/>
            </p:nvSpPr>
            <p:spPr>
              <a:xfrm>
                <a:off x="4008240" y="5449680"/>
                <a:ext cx="70020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3" name="Line 32"/>
              <p:cNvSpPr/>
              <p:nvPr/>
            </p:nvSpPr>
            <p:spPr>
              <a:xfrm flipH="1">
                <a:off x="4384440" y="5459400"/>
                <a:ext cx="324000" cy="22212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4" name="Line 33"/>
              <p:cNvSpPr/>
              <p:nvPr/>
            </p:nvSpPr>
            <p:spPr>
              <a:xfrm flipH="1" flipV="1">
                <a:off x="3406320" y="5667120"/>
                <a:ext cx="965160" cy="140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0240" bIns="-30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Line 34"/>
              <p:cNvSpPr/>
              <p:nvPr/>
            </p:nvSpPr>
            <p:spPr>
              <a:xfrm flipH="1" flipV="1">
                <a:off x="3287160" y="5576760"/>
                <a:ext cx="119160" cy="85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1400" bIns="414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6" name="Line 35"/>
              <p:cNvSpPr/>
              <p:nvPr/>
            </p:nvSpPr>
            <p:spPr>
              <a:xfrm flipH="1" flipV="1">
                <a:off x="3220560" y="5470200"/>
                <a:ext cx="66600" cy="1062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7" name="Line 36"/>
              <p:cNvSpPr/>
              <p:nvPr/>
            </p:nvSpPr>
            <p:spPr>
              <a:xfrm>
                <a:off x="3225600" y="5454720"/>
                <a:ext cx="711360" cy="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8" name="Line 37"/>
              <p:cNvSpPr/>
              <p:nvPr/>
            </p:nvSpPr>
            <p:spPr>
              <a:xfrm flipV="1">
                <a:off x="3936960" y="5327280"/>
                <a:ext cx="0" cy="1270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9" name="Line 38"/>
              <p:cNvSpPr/>
              <p:nvPr/>
            </p:nvSpPr>
            <p:spPr>
              <a:xfrm flipH="1">
                <a:off x="3193560" y="5343480"/>
                <a:ext cx="747720" cy="468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9600" bIns="-39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0" name="Line 39"/>
              <p:cNvSpPr/>
              <p:nvPr/>
            </p:nvSpPr>
            <p:spPr>
              <a:xfrm flipV="1">
                <a:off x="3201840" y="4305240"/>
                <a:ext cx="801720" cy="104760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01" name="Group 84"/>
          <p:cNvGrpSpPr/>
          <p:nvPr/>
        </p:nvGrpSpPr>
        <p:grpSpPr>
          <a:xfrm>
            <a:off x="2984760" y="4272120"/>
            <a:ext cx="4186080" cy="1989360"/>
            <a:chOff x="2984760" y="4272120"/>
            <a:chExt cx="4186080" cy="1989360"/>
          </a:xfrm>
        </p:grpSpPr>
        <p:sp>
          <p:nvSpPr>
            <p:cNvPr id="602" name="Text Box 40"/>
            <p:cNvSpPr/>
            <p:nvPr/>
          </p:nvSpPr>
          <p:spPr>
            <a:xfrm>
              <a:off x="2984760" y="5929200"/>
              <a:ext cx="322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Skevning i negativ x - le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3" name="Group 83"/>
            <p:cNvGrpSpPr/>
            <p:nvPr/>
          </p:nvGrpSpPr>
          <p:grpSpPr>
            <a:xfrm>
              <a:off x="5513400" y="4272120"/>
              <a:ext cx="1657440" cy="1436400"/>
              <a:chOff x="5513400" y="4272120"/>
              <a:chExt cx="1657440" cy="1436400"/>
            </a:xfrm>
          </p:grpSpPr>
          <p:sp>
            <p:nvSpPr>
              <p:cNvPr id="604" name="Line 42"/>
              <p:cNvSpPr/>
              <p:nvPr/>
            </p:nvSpPr>
            <p:spPr>
              <a:xfrm>
                <a:off x="6270480" y="4272120"/>
                <a:ext cx="133560" cy="12045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Line 43"/>
              <p:cNvSpPr/>
              <p:nvPr/>
            </p:nvSpPr>
            <p:spPr>
              <a:xfrm>
                <a:off x="6404040" y="5472000"/>
                <a:ext cx="76680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Line 44"/>
              <p:cNvSpPr/>
              <p:nvPr/>
            </p:nvSpPr>
            <p:spPr>
              <a:xfrm flipH="1">
                <a:off x="6872040" y="5481360"/>
                <a:ext cx="298440" cy="22680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7" name="Line 45"/>
              <p:cNvSpPr/>
              <p:nvPr/>
            </p:nvSpPr>
            <p:spPr>
              <a:xfrm flipH="1">
                <a:off x="5864400" y="5708520"/>
                <a:ext cx="100800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8" name="Line 46"/>
              <p:cNvSpPr/>
              <p:nvPr/>
            </p:nvSpPr>
            <p:spPr>
              <a:xfrm flipH="1" flipV="1">
                <a:off x="5616720" y="5606640"/>
                <a:ext cx="247680" cy="1015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9" name="Line 47"/>
              <p:cNvSpPr/>
              <p:nvPr/>
            </p:nvSpPr>
            <p:spPr>
              <a:xfrm flipH="1" flipV="1">
                <a:off x="5543280" y="5493960"/>
                <a:ext cx="73080" cy="1123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0" name="Line 48"/>
              <p:cNvSpPr/>
              <p:nvPr/>
            </p:nvSpPr>
            <p:spPr>
              <a:xfrm>
                <a:off x="5548320" y="5476680"/>
                <a:ext cx="777960" cy="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1" name="Line 49"/>
              <p:cNvSpPr/>
              <p:nvPr/>
            </p:nvSpPr>
            <p:spPr>
              <a:xfrm flipH="1" flipV="1">
                <a:off x="6296040" y="5349600"/>
                <a:ext cx="30240" cy="1267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2" name="Line 50"/>
              <p:cNvSpPr/>
              <p:nvPr/>
            </p:nvSpPr>
            <p:spPr>
              <a:xfrm flipH="1">
                <a:off x="5513400" y="5349600"/>
                <a:ext cx="782640" cy="122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32040" bIns="-32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3" name="Line 51"/>
              <p:cNvSpPr/>
              <p:nvPr/>
            </p:nvSpPr>
            <p:spPr>
              <a:xfrm flipV="1">
                <a:off x="5521320" y="4286160"/>
                <a:ext cx="763560" cy="10821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14" name="Text Box 85"/>
          <p:cNvSpPr/>
          <p:nvPr/>
        </p:nvSpPr>
        <p:spPr>
          <a:xfrm>
            <a:off x="315720" y="1030320"/>
            <a:ext cx="7926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empel på icke-isometriska operationer som ej bibehåll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åtens mått är skalning och skevn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(Dessa operationer kommer vi inte använda i uppgift 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Rectangle 5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Rectangle 5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Spegling och rot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8" name="Group 121"/>
          <p:cNvGrpSpPr/>
          <p:nvPr/>
        </p:nvGrpSpPr>
        <p:grpSpPr>
          <a:xfrm>
            <a:off x="1312920" y="1741320"/>
            <a:ext cx="3868560" cy="1744560"/>
            <a:chOff x="1312920" y="1741320"/>
            <a:chExt cx="3868560" cy="1744560"/>
          </a:xfrm>
        </p:grpSpPr>
        <mc:AlternateContent>
          <mc:Choice xmlns:a14="http://schemas.microsoft.com/office/drawing/2010/main" Requires="a14">
            <p:sp>
              <p:nvSpPr>
                <p:cNvPr id="619" name="Object 3"/>
                <p:cNvSpPr txBox="1"/>
                <p:nvPr/>
              </p:nvSpPr>
              <p:spPr>
                <a:xfrm>
                  <a:off x="1325520" y="1742760"/>
                  <a:ext cx="168444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0" name="Object 20"/>
                <p:cNvSpPr txBox="1"/>
                <p:nvPr/>
              </p:nvSpPr>
              <p:spPr>
                <a:xfrm>
                  <a:off x="1312920" y="2698560"/>
                  <a:ext cx="38685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1" name="Object 26"/>
                <p:cNvSpPr txBox="1"/>
                <p:nvPr/>
              </p:nvSpPr>
              <p:spPr>
                <a:xfrm>
                  <a:off x="3774960" y="1741320"/>
                  <a:ext cx="134784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Group 125"/>
          <p:cNvGrpSpPr/>
          <p:nvPr/>
        </p:nvGrpSpPr>
        <p:grpSpPr>
          <a:xfrm>
            <a:off x="4568760" y="3605040"/>
            <a:ext cx="4375080" cy="3018960"/>
            <a:chOff x="4568760" y="3605040"/>
            <a:chExt cx="4375080" cy="3018960"/>
          </a:xfrm>
        </p:grpSpPr>
        <mc:AlternateContent>
          <mc:Choice xmlns:a14="http://schemas.microsoft.com/office/drawing/2010/main" Requires="a14">
            <p:sp>
              <p:nvSpPr>
                <p:cNvPr id="623" name="Object 24"/>
                <p:cNvSpPr txBox="1"/>
                <p:nvPr/>
              </p:nvSpPr>
              <p:spPr>
                <a:xfrm>
                  <a:off x="7037280" y="3605040"/>
                  <a:ext cx="190656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24" name="Text Box 30"/>
            <p:cNvSpPr/>
            <p:nvPr/>
          </p:nvSpPr>
          <p:spPr>
            <a:xfrm>
              <a:off x="4568760" y="3720960"/>
              <a:ext cx="2565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Rotation vinkeln v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5" name="Group 97"/>
            <p:cNvGrpSpPr/>
            <p:nvPr/>
          </p:nvGrpSpPr>
          <p:grpSpPr>
            <a:xfrm>
              <a:off x="5743440" y="4296960"/>
              <a:ext cx="3044160" cy="2327040"/>
              <a:chOff x="5743440" y="4296960"/>
              <a:chExt cx="3044160" cy="2327040"/>
            </a:xfrm>
          </p:grpSpPr>
          <p:sp>
            <p:nvSpPr>
              <p:cNvPr id="626" name="Line 75"/>
              <p:cNvSpPr/>
              <p:nvPr/>
            </p:nvSpPr>
            <p:spPr>
              <a:xfrm>
                <a:off x="5743440" y="5565960"/>
                <a:ext cx="30380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7" name="Line 76"/>
              <p:cNvSpPr/>
              <p:nvPr/>
            </p:nvSpPr>
            <p:spPr>
              <a:xfrm flipV="1">
                <a:off x="6982200" y="4502160"/>
                <a:ext cx="0" cy="212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8" name="Line 77"/>
              <p:cNvSpPr/>
              <p:nvPr/>
            </p:nvSpPr>
            <p:spPr>
              <a:xfrm flipV="1">
                <a:off x="6976800" y="4836960"/>
                <a:ext cx="317880" cy="73872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9" name="Line 78"/>
              <p:cNvSpPr/>
              <p:nvPr/>
            </p:nvSpPr>
            <p:spPr>
              <a:xfrm>
                <a:off x="7758720" y="4753800"/>
                <a:ext cx="0" cy="179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0" name="Line 81"/>
              <p:cNvSpPr/>
              <p:nvPr/>
            </p:nvSpPr>
            <p:spPr>
              <a:xfrm>
                <a:off x="5782680" y="6370920"/>
                <a:ext cx="2849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1" name="Line 82"/>
              <p:cNvSpPr/>
              <p:nvPr/>
            </p:nvSpPr>
            <p:spPr>
              <a:xfrm flipV="1">
                <a:off x="5759640" y="4768920"/>
                <a:ext cx="29131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2" name="Text Box 83"/>
              <p:cNvSpPr/>
              <p:nvPr/>
            </p:nvSpPr>
            <p:spPr>
              <a:xfrm>
                <a:off x="7092360" y="4311720"/>
                <a:ext cx="984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(x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ny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, y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ny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3" name="Text Box 84"/>
              <p:cNvSpPr/>
              <p:nvPr/>
            </p:nvSpPr>
            <p:spPr>
              <a:xfrm>
                <a:off x="6647760" y="429696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4" name="Text Box 85"/>
              <p:cNvSpPr/>
              <p:nvPr/>
            </p:nvSpPr>
            <p:spPr>
              <a:xfrm>
                <a:off x="7764840" y="5115600"/>
                <a:ext cx="853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(x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, y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5" name="Line 86"/>
              <p:cNvSpPr/>
              <p:nvPr/>
            </p:nvSpPr>
            <p:spPr>
              <a:xfrm>
                <a:off x="7002000" y="5572440"/>
                <a:ext cx="763200" cy="3240"/>
              </a:xfrm>
              <a:prstGeom prst="line">
                <a:avLst/>
              </a:prstGeom>
              <a:ln w="28440">
                <a:solidFill>
                  <a:srgbClr val="618f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Line 87"/>
              <p:cNvSpPr/>
              <p:nvPr/>
            </p:nvSpPr>
            <p:spPr>
              <a:xfrm flipH="1">
                <a:off x="6251400" y="4402080"/>
                <a:ext cx="9360" cy="213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Oval 88"/>
              <p:cNvSpPr/>
              <p:nvPr/>
            </p:nvSpPr>
            <p:spPr>
              <a:xfrm>
                <a:off x="6249240" y="4779000"/>
                <a:ext cx="1515600" cy="15915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8" name="Line 89"/>
              <p:cNvSpPr/>
              <p:nvPr/>
            </p:nvSpPr>
            <p:spPr>
              <a:xfrm>
                <a:off x="7032600" y="5462280"/>
                <a:ext cx="5220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9" name="Text Box 90"/>
              <p:cNvSpPr/>
              <p:nvPr/>
            </p:nvSpPr>
            <p:spPr>
              <a:xfrm>
                <a:off x="6989400" y="5261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Line 91"/>
              <p:cNvSpPr/>
              <p:nvPr/>
            </p:nvSpPr>
            <p:spPr>
              <a:xfrm>
                <a:off x="7295040" y="5518080"/>
                <a:ext cx="0" cy="11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Line 92"/>
              <p:cNvSpPr/>
              <p:nvPr/>
            </p:nvSpPr>
            <p:spPr>
              <a:xfrm flipH="1">
                <a:off x="6929280" y="4852440"/>
                <a:ext cx="102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Line 93"/>
              <p:cNvSpPr/>
              <p:nvPr/>
            </p:nvSpPr>
            <p:spPr>
              <a:xfrm>
                <a:off x="7295040" y="4892760"/>
                <a:ext cx="0" cy="68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3" name="Line 94"/>
              <p:cNvSpPr/>
              <p:nvPr/>
            </p:nvSpPr>
            <p:spPr>
              <a:xfrm flipH="1">
                <a:off x="6994800" y="4852440"/>
                <a:ext cx="31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Text Box 95"/>
              <p:cNvSpPr/>
              <p:nvPr/>
            </p:nvSpPr>
            <p:spPr>
              <a:xfrm>
                <a:off x="8494200" y="554364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45" name="Oval 98"/>
            <p:cNvSpPr/>
            <p:nvPr/>
          </p:nvSpPr>
          <p:spPr>
            <a:xfrm>
              <a:off x="6937200" y="5528880"/>
              <a:ext cx="88920" cy="9540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3760" bIns="2376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126"/>
          <p:cNvSpPr/>
          <p:nvPr/>
        </p:nvSpPr>
        <p:spPr>
          <a:xfrm>
            <a:off x="1247760" y="1258920"/>
            <a:ext cx="543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(ortsvektor)</a:t>
            </a:r>
            <a:r>
              <a:rPr b="0" lang="sv-SE" sz="1600" spc="-1" strike="noStrike" baseline="-25000">
                <a:solidFill>
                  <a:srgbClr val="000000"/>
                </a:solidFill>
                <a:latin typeface="Verdana"/>
              </a:rPr>
              <a:t>ny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= linjär avbildning av (ortsvektor)</a:t>
            </a:r>
            <a:r>
              <a:rPr b="0" lang="sv-SE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124"/>
          <p:cNvGrpSpPr/>
          <p:nvPr/>
        </p:nvGrpSpPr>
        <p:grpSpPr>
          <a:xfrm>
            <a:off x="975600" y="3579840"/>
            <a:ext cx="3788280" cy="2854800"/>
            <a:chOff x="975600" y="3579840"/>
            <a:chExt cx="3788280" cy="2854800"/>
          </a:xfrm>
        </p:grpSpPr>
        <p:sp>
          <p:nvSpPr>
            <p:cNvPr id="648" name="Text Box 71"/>
            <p:cNvSpPr/>
            <p:nvPr/>
          </p:nvSpPr>
          <p:spPr>
            <a:xfrm>
              <a:off x="4048200" y="60357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Object 127"/>
                <p:cNvSpPr txBox="1"/>
                <p:nvPr/>
              </p:nvSpPr>
              <p:spPr>
                <a:xfrm>
                  <a:off x="3430440" y="3579840"/>
                  <a:ext cx="114480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50" name="Text Box 31"/>
            <p:cNvSpPr/>
            <p:nvPr/>
          </p:nvSpPr>
          <p:spPr>
            <a:xfrm>
              <a:off x="975600" y="3713040"/>
              <a:ext cx="2411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Spegling i y-axe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53"/>
            <p:cNvSpPr/>
            <p:nvPr/>
          </p:nvSpPr>
          <p:spPr>
            <a:xfrm>
              <a:off x="1214280" y="6141960"/>
              <a:ext cx="323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Line 54"/>
            <p:cNvSpPr/>
            <p:nvPr/>
          </p:nvSpPr>
          <p:spPr>
            <a:xfrm flipV="1">
              <a:off x="2576520" y="4371480"/>
              <a:ext cx="0" cy="19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Line 56"/>
            <p:cNvSpPr/>
            <p:nvPr/>
          </p:nvSpPr>
          <p:spPr>
            <a:xfrm flipV="1">
              <a:off x="2582640" y="5014800"/>
              <a:ext cx="606600" cy="11080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Line 57"/>
            <p:cNvSpPr/>
            <p:nvPr/>
          </p:nvSpPr>
          <p:spPr>
            <a:xfrm>
              <a:off x="3184560" y="4454640"/>
              <a:ext cx="0" cy="18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Line 58"/>
            <p:cNvSpPr/>
            <p:nvPr/>
          </p:nvSpPr>
          <p:spPr>
            <a:xfrm>
              <a:off x="3784680" y="4454640"/>
              <a:ext cx="0" cy="18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Line 59"/>
            <p:cNvSpPr/>
            <p:nvPr/>
          </p:nvSpPr>
          <p:spPr>
            <a:xfrm>
              <a:off x="1341360" y="4454640"/>
              <a:ext cx="0" cy="18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Line 60"/>
            <p:cNvSpPr/>
            <p:nvPr/>
          </p:nvSpPr>
          <p:spPr>
            <a:xfrm flipV="1">
              <a:off x="1214280" y="5568480"/>
              <a:ext cx="347508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Line 61"/>
            <p:cNvSpPr/>
            <p:nvPr/>
          </p:nvSpPr>
          <p:spPr>
            <a:xfrm>
              <a:off x="1173240" y="5014800"/>
              <a:ext cx="359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Text Box 62"/>
            <p:cNvSpPr/>
            <p:nvPr/>
          </p:nvSpPr>
          <p:spPr>
            <a:xfrm>
              <a:off x="1428120" y="4611600"/>
              <a:ext cx="98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ny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ny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Text Box 63"/>
            <p:cNvSpPr/>
            <p:nvPr/>
          </p:nvSpPr>
          <p:spPr>
            <a:xfrm>
              <a:off x="2293920" y="4309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Text Box 64"/>
            <p:cNvSpPr/>
            <p:nvPr/>
          </p:nvSpPr>
          <p:spPr>
            <a:xfrm>
              <a:off x="3079800" y="4537080"/>
              <a:ext cx="853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Line 67"/>
            <p:cNvSpPr/>
            <p:nvPr/>
          </p:nvSpPr>
          <p:spPr>
            <a:xfrm flipH="1" flipV="1">
              <a:off x="1960560" y="5025960"/>
              <a:ext cx="619200" cy="11066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Line 69"/>
            <p:cNvSpPr/>
            <p:nvPr/>
          </p:nvSpPr>
          <p:spPr>
            <a:xfrm>
              <a:off x="1971720" y="4452840"/>
              <a:ext cx="0" cy="18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Line 72"/>
            <p:cNvSpPr/>
            <p:nvPr/>
          </p:nvSpPr>
          <p:spPr>
            <a:xfrm>
              <a:off x="2573280" y="4740120"/>
              <a:ext cx="9360" cy="14954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5" name="Rectangle 84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Rectangle 85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67" name="Straight Arrow Connector 27"/>
          <p:cNvCxnSpPr/>
          <p:nvPr/>
        </p:nvCxnSpPr>
        <p:spPr>
          <a:xfrm flipV="1">
            <a:off x="7706880" y="3553560"/>
            <a:ext cx="940680" cy="880200"/>
          </a:xfrm>
          <a:prstGeom prst="straightConnector1">
            <a:avLst/>
          </a:prstGeom>
          <a:ln w="9360">
            <a:solidFill>
              <a:srgbClr val="d9d9d9"/>
            </a:solidFill>
            <a:miter/>
            <a:tailEnd len="med" type="arrow" w="med"/>
          </a:ln>
        </p:spPr>
      </p:cxn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Rot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262160" y="1255680"/>
            <a:ext cx="739296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tittar tillbaka på uppgift 1 och på normalerna som skulle beräknas till polygonens kan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 uppgift 1 löste vi detta på följande sä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(exemplet gäller vektorn u1 mellan vektorer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1 och v2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1255680" y="4051440"/>
            <a:ext cx="516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Normalerna kan även hittas genom en rotation av vektorn u1 90° motu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230480" y="4846680"/>
                <a:ext cx="644364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3"/>
              <p:cNvSpPr txBox="1"/>
              <p:nvPr/>
            </p:nvSpPr>
            <p:spPr>
              <a:xfrm>
                <a:off x="1231920" y="3127320"/>
                <a:ext cx="1485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4"/>
              <p:cNvSpPr txBox="1"/>
              <p:nvPr/>
            </p:nvSpPr>
            <p:spPr>
              <a:xfrm>
                <a:off x="3075120" y="3119400"/>
                <a:ext cx="1676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674" name="Straight Arrow Connector 8"/>
          <p:cNvCxnSpPr/>
          <p:nvPr/>
        </p:nvCxnSpPr>
        <p:spPr>
          <a:xfrm flipV="1">
            <a:off x="7708680" y="3168360"/>
            <a:ext cx="1080" cy="17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5" name="Straight Arrow Connector 10"/>
          <p:cNvCxnSpPr/>
          <p:nvPr/>
        </p:nvCxnSpPr>
        <p:spPr>
          <a:xfrm>
            <a:off x="6788160" y="4433400"/>
            <a:ext cx="20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6" name="Straight Arrow Connector 12"/>
          <p:cNvCxnSpPr/>
          <p:nvPr/>
        </p:nvCxnSpPr>
        <p:spPr>
          <a:xfrm flipV="1">
            <a:off x="8397720" y="3544200"/>
            <a:ext cx="253440" cy="6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7" name="Straight Arrow Connector 17"/>
          <p:cNvCxnSpPr/>
          <p:nvPr/>
        </p:nvCxnSpPr>
        <p:spPr>
          <a:xfrm flipH="1" flipV="1">
            <a:off x="6998400" y="4155480"/>
            <a:ext cx="708840" cy="275400"/>
          </a:xfrm>
          <a:prstGeom prst="straightConnector1">
            <a:avLst/>
          </a:prstGeom>
          <a:ln w="9360">
            <a:solidFill>
              <a:srgbClr val="00ae00"/>
            </a:solidFill>
            <a:miter/>
            <a:tailEnd len="med" type="arrow" w="med"/>
          </a:ln>
        </p:spPr>
      </p:cxnSp>
      <p:sp>
        <p:nvSpPr>
          <p:cNvPr id="678" name="Text Box 4"/>
          <p:cNvSpPr/>
          <p:nvPr/>
        </p:nvSpPr>
        <p:spPr>
          <a:xfrm>
            <a:off x="6754680" y="3855960"/>
            <a:ext cx="40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8294760" y="3359160"/>
            <a:ext cx="404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7934400" y="3662280"/>
            <a:ext cx="49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024760" y="4176720"/>
            <a:ext cx="40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82" name="Straight Arrow Connector 24"/>
          <p:cNvCxnSpPr/>
          <p:nvPr/>
        </p:nvCxnSpPr>
        <p:spPr>
          <a:xfrm flipV="1">
            <a:off x="7714800" y="3766680"/>
            <a:ext cx="253080" cy="6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3" name="Straight Arrow Connector 28"/>
          <p:cNvCxnSpPr/>
          <p:nvPr/>
        </p:nvCxnSpPr>
        <p:spPr>
          <a:xfrm flipV="1">
            <a:off x="7716600" y="4217400"/>
            <a:ext cx="680040" cy="213480"/>
          </a:xfrm>
          <a:prstGeom prst="straightConnector1">
            <a:avLst/>
          </a:prstGeom>
          <a:ln w="9360">
            <a:solidFill>
              <a:srgbClr val="d9d9d9"/>
            </a:solidFill>
            <a:miter/>
            <a:tailEnd len="med" type="arrow" w="med"/>
          </a:ln>
        </p:spPr>
      </p:cxnSp>
      <p:sp>
        <p:nvSpPr>
          <p:cNvPr id="684" name="Rectangle 34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58920" y="294840"/>
            <a:ext cx="8424720" cy="58284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Transl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269360" y="2033640"/>
            <a:ext cx="5611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har sett att spegling och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an göras som en matrismultiplikatio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en hur är det med transl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AutoShape 6"/>
          <p:cNvSpPr/>
          <p:nvPr/>
        </p:nvSpPr>
        <p:spPr>
          <a:xfrm>
            <a:off x="2114640" y="4014720"/>
            <a:ext cx="18064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9" name="Group 46"/>
          <p:cNvGrpSpPr/>
          <p:nvPr/>
        </p:nvGrpSpPr>
        <p:grpSpPr>
          <a:xfrm>
            <a:off x="4295880" y="4819680"/>
            <a:ext cx="1763280" cy="731880"/>
            <a:chOff x="4295880" y="4819680"/>
            <a:chExt cx="1763280" cy="731880"/>
          </a:xfrm>
        </p:grpSpPr>
        <p:sp>
          <p:nvSpPr>
            <p:cNvPr id="690" name="Freeform 47"/>
            <p:cNvSpPr/>
            <p:nvPr/>
          </p:nvSpPr>
          <p:spPr>
            <a:xfrm>
              <a:off x="5981760" y="5184720"/>
              <a:ext cx="36000" cy="13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Freeform 48"/>
            <p:cNvSpPr/>
            <p:nvPr/>
          </p:nvSpPr>
          <p:spPr>
            <a:xfrm>
              <a:off x="5788080" y="4834080"/>
              <a:ext cx="23400" cy="83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Freeform 49"/>
            <p:cNvSpPr/>
            <p:nvPr/>
          </p:nvSpPr>
          <p:spPr>
            <a:xfrm>
              <a:off x="5759280" y="4943520"/>
              <a:ext cx="61560" cy="123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Freeform 50"/>
            <p:cNvSpPr/>
            <p:nvPr/>
          </p:nvSpPr>
          <p:spPr>
            <a:xfrm>
              <a:off x="4390920" y="4863960"/>
              <a:ext cx="1523520" cy="68760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Freeform 51"/>
            <p:cNvSpPr/>
            <p:nvPr/>
          </p:nvSpPr>
          <p:spPr>
            <a:xfrm>
              <a:off x="4338720" y="4830840"/>
              <a:ext cx="1667880" cy="550800"/>
            </a:xfrm>
            <a:custGeom>
              <a:avLst/>
              <a:gdLst>
                <a:gd name="textAreaLeft" fmla="*/ 0 w 1667880"/>
                <a:gd name="textAreaRight" fmla="*/ 1668240 w 166788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Freeform 52"/>
            <p:cNvSpPr/>
            <p:nvPr/>
          </p:nvSpPr>
          <p:spPr>
            <a:xfrm>
              <a:off x="4338720" y="5129280"/>
              <a:ext cx="1672560" cy="258840"/>
            </a:xfrm>
            <a:custGeom>
              <a:avLst/>
              <a:gdLst>
                <a:gd name="textAreaLeft" fmla="*/ 0 w 1672560"/>
                <a:gd name="textAreaRight" fmla="*/ 1672920 w 1672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Freeform 53"/>
            <p:cNvSpPr/>
            <p:nvPr/>
          </p:nvSpPr>
          <p:spPr>
            <a:xfrm>
              <a:off x="4346640" y="4888080"/>
              <a:ext cx="101160" cy="44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Freeform 54"/>
            <p:cNvSpPr/>
            <p:nvPr/>
          </p:nvSpPr>
          <p:spPr>
            <a:xfrm>
              <a:off x="4303800" y="4861080"/>
              <a:ext cx="23400" cy="83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Freeform 55"/>
            <p:cNvSpPr/>
            <p:nvPr/>
          </p:nvSpPr>
          <p:spPr>
            <a:xfrm>
              <a:off x="4446360" y="5025960"/>
              <a:ext cx="147600" cy="651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Freeform 56"/>
            <p:cNvSpPr/>
            <p:nvPr/>
          </p:nvSpPr>
          <p:spPr>
            <a:xfrm>
              <a:off x="4448160" y="4944960"/>
              <a:ext cx="147240" cy="5868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Freeform 57"/>
            <p:cNvSpPr/>
            <p:nvPr/>
          </p:nvSpPr>
          <p:spPr>
            <a:xfrm>
              <a:off x="4626000" y="4944960"/>
              <a:ext cx="147240" cy="5868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Freeform 58"/>
            <p:cNvSpPr/>
            <p:nvPr/>
          </p:nvSpPr>
          <p:spPr>
            <a:xfrm>
              <a:off x="4624200" y="5025960"/>
              <a:ext cx="147240" cy="65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Freeform 59"/>
            <p:cNvSpPr/>
            <p:nvPr/>
          </p:nvSpPr>
          <p:spPr>
            <a:xfrm>
              <a:off x="4802040" y="5025960"/>
              <a:ext cx="145800" cy="651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Freeform 60"/>
            <p:cNvSpPr/>
            <p:nvPr/>
          </p:nvSpPr>
          <p:spPr>
            <a:xfrm>
              <a:off x="4803840" y="4944960"/>
              <a:ext cx="145440" cy="58680"/>
            </a:xfrm>
            <a:custGeom>
              <a:avLst/>
              <a:gdLst>
                <a:gd name="textAreaLeft" fmla="*/ 0 w 145440"/>
                <a:gd name="textAreaRight" fmla="*/ 145440 w 145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Freeform 61"/>
            <p:cNvSpPr/>
            <p:nvPr/>
          </p:nvSpPr>
          <p:spPr>
            <a:xfrm>
              <a:off x="4978440" y="5025960"/>
              <a:ext cx="147240" cy="65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62"/>
            <p:cNvSpPr/>
            <p:nvPr/>
          </p:nvSpPr>
          <p:spPr>
            <a:xfrm>
              <a:off x="4979880" y="4944960"/>
              <a:ext cx="147240" cy="5868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63"/>
            <p:cNvSpPr/>
            <p:nvPr/>
          </p:nvSpPr>
          <p:spPr>
            <a:xfrm>
              <a:off x="5156280" y="5025960"/>
              <a:ext cx="147240" cy="65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64"/>
            <p:cNvSpPr/>
            <p:nvPr/>
          </p:nvSpPr>
          <p:spPr>
            <a:xfrm>
              <a:off x="5157720" y="4944960"/>
              <a:ext cx="147240" cy="5868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65"/>
            <p:cNvSpPr/>
            <p:nvPr/>
          </p:nvSpPr>
          <p:spPr>
            <a:xfrm>
              <a:off x="5330880" y="5025960"/>
              <a:ext cx="147240" cy="6516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66"/>
            <p:cNvSpPr/>
            <p:nvPr/>
          </p:nvSpPr>
          <p:spPr>
            <a:xfrm>
              <a:off x="5332320" y="4944960"/>
              <a:ext cx="147240" cy="586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Freeform 67"/>
            <p:cNvSpPr/>
            <p:nvPr/>
          </p:nvSpPr>
          <p:spPr>
            <a:xfrm>
              <a:off x="5708520" y="5200560"/>
              <a:ext cx="266400" cy="119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Freeform 68"/>
            <p:cNvSpPr/>
            <p:nvPr/>
          </p:nvSpPr>
          <p:spPr>
            <a:xfrm>
              <a:off x="4984560" y="5268960"/>
              <a:ext cx="982440" cy="22860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4381560" y="4890960"/>
              <a:ext cx="737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4448160" y="5126040"/>
              <a:ext cx="63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Freeform 71"/>
            <p:cNvSpPr/>
            <p:nvPr/>
          </p:nvSpPr>
          <p:spPr>
            <a:xfrm>
              <a:off x="4390920" y="5197320"/>
              <a:ext cx="1063440" cy="255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5" name="Freeform 72"/>
            <p:cNvSpPr/>
            <p:nvPr/>
          </p:nvSpPr>
          <p:spPr>
            <a:xfrm>
              <a:off x="4935600" y="5311800"/>
              <a:ext cx="780480" cy="2520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Freeform 73"/>
            <p:cNvSpPr/>
            <p:nvPr/>
          </p:nvSpPr>
          <p:spPr>
            <a:xfrm>
              <a:off x="4387680" y="5181480"/>
              <a:ext cx="1087200" cy="2376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7" name="Rectangle 74"/>
            <p:cNvSpPr/>
            <p:nvPr/>
          </p:nvSpPr>
          <p:spPr>
            <a:xfrm>
              <a:off x="5611680" y="4929120"/>
              <a:ext cx="64800" cy="36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Rectangle 75"/>
            <p:cNvSpPr/>
            <p:nvPr/>
          </p:nvSpPr>
          <p:spPr>
            <a:xfrm>
              <a:off x="5526000" y="4929120"/>
              <a:ext cx="66240" cy="36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Freeform 76"/>
            <p:cNvSpPr/>
            <p:nvPr/>
          </p:nvSpPr>
          <p:spPr>
            <a:xfrm>
              <a:off x="4503600" y="4819680"/>
              <a:ext cx="1555560" cy="60012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0" name="Freeform 77"/>
            <p:cNvSpPr/>
            <p:nvPr/>
          </p:nvSpPr>
          <p:spPr>
            <a:xfrm>
              <a:off x="4295880" y="4830840"/>
              <a:ext cx="610920" cy="67788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1" name="Freeform 78"/>
            <p:cNvSpPr/>
            <p:nvPr/>
          </p:nvSpPr>
          <p:spPr>
            <a:xfrm>
              <a:off x="4730760" y="5343480"/>
              <a:ext cx="91800" cy="936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Freeform 79"/>
            <p:cNvSpPr/>
            <p:nvPr/>
          </p:nvSpPr>
          <p:spPr>
            <a:xfrm>
              <a:off x="4755960" y="5357880"/>
              <a:ext cx="53640" cy="63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Freeform 80"/>
            <p:cNvSpPr/>
            <p:nvPr/>
          </p:nvSpPr>
          <p:spPr>
            <a:xfrm>
              <a:off x="5811840" y="5335560"/>
              <a:ext cx="93240" cy="921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Freeform 81"/>
            <p:cNvSpPr/>
            <p:nvPr/>
          </p:nvSpPr>
          <p:spPr>
            <a:xfrm>
              <a:off x="5838840" y="5348160"/>
              <a:ext cx="53640" cy="651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5" name="Group 88"/>
          <p:cNvGrpSpPr/>
          <p:nvPr/>
        </p:nvGrpSpPr>
        <p:grpSpPr>
          <a:xfrm>
            <a:off x="714240" y="4822920"/>
            <a:ext cx="7401240" cy="731880"/>
            <a:chOff x="714240" y="4822920"/>
            <a:chExt cx="7401240" cy="731880"/>
          </a:xfrm>
        </p:grpSpPr>
        <p:grpSp>
          <p:nvGrpSpPr>
            <p:cNvPr id="726" name="Group 45"/>
            <p:cNvGrpSpPr/>
            <p:nvPr/>
          </p:nvGrpSpPr>
          <p:grpSpPr>
            <a:xfrm>
              <a:off x="1327320" y="4822920"/>
              <a:ext cx="1763280" cy="731880"/>
              <a:chOff x="1327320" y="4822920"/>
              <a:chExt cx="1763280" cy="731880"/>
            </a:xfrm>
          </p:grpSpPr>
          <p:sp>
            <p:nvSpPr>
              <p:cNvPr id="727" name="Freeform 8"/>
              <p:cNvSpPr/>
              <p:nvPr/>
            </p:nvSpPr>
            <p:spPr>
              <a:xfrm>
                <a:off x="3013200" y="5187960"/>
                <a:ext cx="36000" cy="1317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165">
                    <a:moveTo>
                      <a:pt x="46" y="165"/>
                    </a:moveTo>
                    <a:lnTo>
                      <a:pt x="46" y="2"/>
                    </a:lnTo>
                    <a:lnTo>
                      <a:pt x="9" y="0"/>
                    </a:lnTo>
                    <a:lnTo>
                      <a:pt x="0" y="165"/>
                    </a:lnTo>
                    <a:lnTo>
                      <a:pt x="46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8" name="Freeform 9"/>
              <p:cNvSpPr/>
              <p:nvPr/>
            </p:nvSpPr>
            <p:spPr>
              <a:xfrm>
                <a:off x="2819520" y="4837320"/>
                <a:ext cx="23400" cy="838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0" h="106">
                    <a:moveTo>
                      <a:pt x="30" y="53"/>
                    </a:moveTo>
                    <a:lnTo>
                      <a:pt x="28" y="32"/>
                    </a:lnTo>
                    <a:lnTo>
                      <a:pt x="22" y="16"/>
                    </a:lnTo>
                    <a:lnTo>
                      <a:pt x="14" y="5"/>
                    </a:lnTo>
                    <a:lnTo>
                      <a:pt x="3" y="0"/>
                    </a:lnTo>
                    <a:lnTo>
                      <a:pt x="0" y="106"/>
                    </a:lnTo>
                    <a:lnTo>
                      <a:pt x="12" y="101"/>
                    </a:lnTo>
                    <a:lnTo>
                      <a:pt x="21" y="90"/>
                    </a:lnTo>
                    <a:lnTo>
                      <a:pt x="27" y="74"/>
                    </a:lnTo>
                    <a:lnTo>
                      <a:pt x="3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Freeform 10"/>
              <p:cNvSpPr/>
              <p:nvPr/>
            </p:nvSpPr>
            <p:spPr>
              <a:xfrm>
                <a:off x="2790720" y="4946760"/>
                <a:ext cx="61560" cy="123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78" h="157">
                    <a:moveTo>
                      <a:pt x="64" y="0"/>
                    </a:moveTo>
                    <a:lnTo>
                      <a:pt x="58" y="1"/>
                    </a:lnTo>
                    <a:lnTo>
                      <a:pt x="54" y="5"/>
                    </a:lnTo>
                    <a:lnTo>
                      <a:pt x="50" y="9"/>
                    </a:lnTo>
                    <a:lnTo>
                      <a:pt x="49" y="15"/>
                    </a:lnTo>
                    <a:lnTo>
                      <a:pt x="49" y="38"/>
                    </a:lnTo>
                    <a:lnTo>
                      <a:pt x="1" y="38"/>
                    </a:lnTo>
                    <a:lnTo>
                      <a:pt x="1" y="56"/>
                    </a:lnTo>
                    <a:lnTo>
                      <a:pt x="49" y="56"/>
                    </a:lnTo>
                    <a:lnTo>
                      <a:pt x="48" y="84"/>
                    </a:lnTo>
                    <a:lnTo>
                      <a:pt x="0" y="84"/>
                    </a:lnTo>
                    <a:lnTo>
                      <a:pt x="0" y="102"/>
                    </a:lnTo>
                    <a:lnTo>
                      <a:pt x="48" y="102"/>
                    </a:lnTo>
                    <a:lnTo>
                      <a:pt x="47" y="142"/>
                    </a:lnTo>
                    <a:lnTo>
                      <a:pt x="48" y="148"/>
                    </a:lnTo>
                    <a:lnTo>
                      <a:pt x="50" y="152"/>
                    </a:lnTo>
                    <a:lnTo>
                      <a:pt x="55" y="156"/>
                    </a:lnTo>
                    <a:lnTo>
                      <a:pt x="61" y="157"/>
                    </a:lnTo>
                    <a:lnTo>
                      <a:pt x="65" y="156"/>
                    </a:lnTo>
                    <a:lnTo>
                      <a:pt x="70" y="152"/>
                    </a:lnTo>
                    <a:lnTo>
                      <a:pt x="73" y="148"/>
                    </a:lnTo>
                    <a:lnTo>
                      <a:pt x="74" y="142"/>
                    </a:lnTo>
                    <a:lnTo>
                      <a:pt x="78" y="15"/>
                    </a:lnTo>
                    <a:lnTo>
                      <a:pt x="77" y="9"/>
                    </a:lnTo>
                    <a:lnTo>
                      <a:pt x="74" y="5"/>
                    </a:lnTo>
                    <a:lnTo>
                      <a:pt x="70" y="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0" name="Freeform 13"/>
              <p:cNvSpPr/>
              <p:nvPr/>
            </p:nvSpPr>
            <p:spPr>
              <a:xfrm>
                <a:off x="1422360" y="4867200"/>
                <a:ext cx="1523520" cy="687600"/>
              </a:xfrm>
              <a:custGeom>
                <a:avLst/>
                <a:gdLst>
                  <a:gd name="textAreaLeft" fmla="*/ 0 w 1523520"/>
                  <a:gd name="textAreaRight" fmla="*/ 1523880 w 152352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1920" h="866">
                    <a:moveTo>
                      <a:pt x="1749" y="340"/>
                    </a:moveTo>
                    <a:lnTo>
                      <a:pt x="1751" y="258"/>
                    </a:lnTo>
                    <a:lnTo>
                      <a:pt x="1787" y="258"/>
                    </a:lnTo>
                    <a:lnTo>
                      <a:pt x="1786" y="297"/>
                    </a:lnTo>
                    <a:lnTo>
                      <a:pt x="1787" y="303"/>
                    </a:lnTo>
                    <a:lnTo>
                      <a:pt x="1789" y="308"/>
                    </a:lnTo>
                    <a:lnTo>
                      <a:pt x="1794" y="311"/>
                    </a:lnTo>
                    <a:lnTo>
                      <a:pt x="1800" y="312"/>
                    </a:lnTo>
                    <a:lnTo>
                      <a:pt x="1804" y="311"/>
                    </a:lnTo>
                    <a:lnTo>
                      <a:pt x="1809" y="308"/>
                    </a:lnTo>
                    <a:lnTo>
                      <a:pt x="1812" y="303"/>
                    </a:lnTo>
                    <a:lnTo>
                      <a:pt x="1814" y="297"/>
                    </a:lnTo>
                    <a:lnTo>
                      <a:pt x="1817" y="172"/>
                    </a:lnTo>
                    <a:lnTo>
                      <a:pt x="1816" y="166"/>
                    </a:lnTo>
                    <a:lnTo>
                      <a:pt x="1812" y="161"/>
                    </a:lnTo>
                    <a:lnTo>
                      <a:pt x="1808" y="158"/>
                    </a:lnTo>
                    <a:lnTo>
                      <a:pt x="1803" y="157"/>
                    </a:lnTo>
                    <a:lnTo>
                      <a:pt x="1797" y="158"/>
                    </a:lnTo>
                    <a:lnTo>
                      <a:pt x="1793" y="161"/>
                    </a:lnTo>
                    <a:lnTo>
                      <a:pt x="1789" y="166"/>
                    </a:lnTo>
                    <a:lnTo>
                      <a:pt x="1788" y="172"/>
                    </a:lnTo>
                    <a:lnTo>
                      <a:pt x="1788" y="195"/>
                    </a:lnTo>
                    <a:lnTo>
                      <a:pt x="1752" y="195"/>
                    </a:lnTo>
                    <a:lnTo>
                      <a:pt x="1755" y="75"/>
                    </a:lnTo>
                    <a:lnTo>
                      <a:pt x="1754" y="62"/>
                    </a:lnTo>
                    <a:lnTo>
                      <a:pt x="1751" y="48"/>
                    </a:lnTo>
                    <a:lnTo>
                      <a:pt x="1746" y="36"/>
                    </a:lnTo>
                    <a:lnTo>
                      <a:pt x="1739" y="24"/>
                    </a:lnTo>
                    <a:lnTo>
                      <a:pt x="1729" y="15"/>
                    </a:lnTo>
                    <a:lnTo>
                      <a:pt x="1719" y="7"/>
                    </a:lnTo>
                    <a:lnTo>
                      <a:pt x="1709" y="2"/>
                    </a:lnTo>
                    <a:lnTo>
                      <a:pt x="1696" y="0"/>
                    </a:lnTo>
                    <a:lnTo>
                      <a:pt x="158" y="14"/>
                    </a:lnTo>
                    <a:lnTo>
                      <a:pt x="254" y="16"/>
                    </a:lnTo>
                    <a:lnTo>
                      <a:pt x="75" y="15"/>
                    </a:lnTo>
                    <a:lnTo>
                      <a:pt x="75" y="12"/>
                    </a:lnTo>
                    <a:lnTo>
                      <a:pt x="26" y="12"/>
                    </a:lnTo>
                    <a:lnTo>
                      <a:pt x="19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3" y="14"/>
                    </a:lnTo>
                    <a:lnTo>
                      <a:pt x="0" y="15"/>
                    </a:lnTo>
                    <a:lnTo>
                      <a:pt x="211" y="714"/>
                    </a:lnTo>
                    <a:lnTo>
                      <a:pt x="366" y="710"/>
                    </a:lnTo>
                    <a:lnTo>
                      <a:pt x="366" y="713"/>
                    </a:lnTo>
                    <a:lnTo>
                      <a:pt x="366" y="717"/>
                    </a:lnTo>
                    <a:lnTo>
                      <a:pt x="366" y="720"/>
                    </a:lnTo>
                    <a:lnTo>
                      <a:pt x="365" y="724"/>
                    </a:lnTo>
                    <a:lnTo>
                      <a:pt x="367" y="752"/>
                    </a:lnTo>
                    <a:lnTo>
                      <a:pt x="375" y="779"/>
                    </a:lnTo>
                    <a:lnTo>
                      <a:pt x="387" y="803"/>
                    </a:lnTo>
                    <a:lnTo>
                      <a:pt x="403" y="824"/>
                    </a:lnTo>
                    <a:lnTo>
                      <a:pt x="423" y="842"/>
                    </a:lnTo>
                    <a:lnTo>
                      <a:pt x="446" y="855"/>
                    </a:lnTo>
                    <a:lnTo>
                      <a:pt x="471" y="863"/>
                    </a:lnTo>
                    <a:lnTo>
                      <a:pt x="499" y="866"/>
                    </a:lnTo>
                    <a:lnTo>
                      <a:pt x="526" y="864"/>
                    </a:lnTo>
                    <a:lnTo>
                      <a:pt x="553" y="856"/>
                    </a:lnTo>
                    <a:lnTo>
                      <a:pt x="576" y="843"/>
                    </a:lnTo>
                    <a:lnTo>
                      <a:pt x="597" y="826"/>
                    </a:lnTo>
                    <a:lnTo>
                      <a:pt x="614" y="807"/>
                    </a:lnTo>
                    <a:lnTo>
                      <a:pt x="627" y="782"/>
                    </a:lnTo>
                    <a:lnTo>
                      <a:pt x="635" y="756"/>
                    </a:lnTo>
                    <a:lnTo>
                      <a:pt x="638" y="727"/>
                    </a:lnTo>
                    <a:lnTo>
                      <a:pt x="638" y="724"/>
                    </a:lnTo>
                    <a:lnTo>
                      <a:pt x="638" y="720"/>
                    </a:lnTo>
                    <a:lnTo>
                      <a:pt x="638" y="718"/>
                    </a:lnTo>
                    <a:lnTo>
                      <a:pt x="638" y="714"/>
                    </a:lnTo>
                    <a:lnTo>
                      <a:pt x="919" y="703"/>
                    </a:lnTo>
                    <a:lnTo>
                      <a:pt x="1069" y="704"/>
                    </a:lnTo>
                    <a:lnTo>
                      <a:pt x="1771" y="731"/>
                    </a:lnTo>
                    <a:lnTo>
                      <a:pt x="1778" y="720"/>
                    </a:lnTo>
                    <a:lnTo>
                      <a:pt x="1795" y="680"/>
                    </a:lnTo>
                    <a:lnTo>
                      <a:pt x="1818" y="618"/>
                    </a:lnTo>
                    <a:lnTo>
                      <a:pt x="1846" y="544"/>
                    </a:lnTo>
                    <a:lnTo>
                      <a:pt x="1872" y="470"/>
                    </a:lnTo>
                    <a:lnTo>
                      <a:pt x="1897" y="404"/>
                    </a:lnTo>
                    <a:lnTo>
                      <a:pt x="1913" y="357"/>
                    </a:lnTo>
                    <a:lnTo>
                      <a:pt x="1920" y="340"/>
                    </a:lnTo>
                    <a:lnTo>
                      <a:pt x="1749" y="340"/>
                    </a:lnTo>
                    <a:close/>
                  </a:path>
                </a:pathLst>
              </a:custGeom>
              <a:solidFill>
                <a:srgbClr val="d6c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1" name="Freeform 14"/>
              <p:cNvSpPr/>
              <p:nvPr/>
            </p:nvSpPr>
            <p:spPr>
              <a:xfrm>
                <a:off x="1370160" y="4834080"/>
                <a:ext cx="1667880" cy="550800"/>
              </a:xfrm>
              <a:custGeom>
                <a:avLst/>
                <a:gdLst>
                  <a:gd name="textAreaLeft" fmla="*/ 0 w 1667880"/>
                  <a:gd name="textAreaRight" fmla="*/ 1668240 w 166788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2102" h="693">
                    <a:moveTo>
                      <a:pt x="61" y="0"/>
                    </a:moveTo>
                    <a:lnTo>
                      <a:pt x="1753" y="19"/>
                    </a:lnTo>
                    <a:lnTo>
                      <a:pt x="1777" y="44"/>
                    </a:lnTo>
                    <a:lnTo>
                      <a:pt x="1789" y="106"/>
                    </a:lnTo>
                    <a:lnTo>
                      <a:pt x="1789" y="358"/>
                    </a:lnTo>
                    <a:lnTo>
                      <a:pt x="2084" y="352"/>
                    </a:lnTo>
                    <a:lnTo>
                      <a:pt x="2102" y="409"/>
                    </a:lnTo>
                    <a:lnTo>
                      <a:pt x="2102" y="548"/>
                    </a:lnTo>
                    <a:lnTo>
                      <a:pt x="2096" y="693"/>
                    </a:lnTo>
                    <a:lnTo>
                      <a:pt x="656" y="686"/>
                    </a:lnTo>
                    <a:lnTo>
                      <a:pt x="0" y="680"/>
                    </a:lnTo>
                    <a:lnTo>
                      <a:pt x="6" y="573"/>
                    </a:lnTo>
                    <a:lnTo>
                      <a:pt x="13" y="201"/>
                    </a:lnTo>
                    <a:lnTo>
                      <a:pt x="18" y="8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dd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Freeform 15"/>
              <p:cNvSpPr/>
              <p:nvPr/>
            </p:nvSpPr>
            <p:spPr>
              <a:xfrm>
                <a:off x="1370160" y="5132520"/>
                <a:ext cx="1672560" cy="258840"/>
              </a:xfrm>
              <a:custGeom>
                <a:avLst/>
                <a:gdLst>
                  <a:gd name="textAreaLeft" fmla="*/ 0 w 1672560"/>
                  <a:gd name="textAreaRight" fmla="*/ 1672920 w 16725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108" h="326">
                    <a:moveTo>
                      <a:pt x="2108" y="27"/>
                    </a:moveTo>
                    <a:lnTo>
                      <a:pt x="2027" y="0"/>
                    </a:lnTo>
                    <a:lnTo>
                      <a:pt x="2034" y="139"/>
                    </a:lnTo>
                    <a:lnTo>
                      <a:pt x="1940" y="111"/>
                    </a:lnTo>
                    <a:lnTo>
                      <a:pt x="1860" y="115"/>
                    </a:lnTo>
                    <a:lnTo>
                      <a:pt x="1816" y="139"/>
                    </a:lnTo>
                    <a:lnTo>
                      <a:pt x="1779" y="174"/>
                    </a:lnTo>
                    <a:lnTo>
                      <a:pt x="1730" y="239"/>
                    </a:lnTo>
                    <a:lnTo>
                      <a:pt x="0" y="235"/>
                    </a:lnTo>
                    <a:lnTo>
                      <a:pt x="4" y="326"/>
                    </a:lnTo>
                    <a:lnTo>
                      <a:pt x="2085" y="318"/>
                    </a:lnTo>
                    <a:lnTo>
                      <a:pt x="2085" y="232"/>
                    </a:lnTo>
                    <a:lnTo>
                      <a:pt x="2102" y="235"/>
                    </a:lnTo>
                    <a:lnTo>
                      <a:pt x="2108" y="27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3" name="Freeform 16"/>
              <p:cNvSpPr/>
              <p:nvPr/>
            </p:nvSpPr>
            <p:spPr>
              <a:xfrm>
                <a:off x="1378080" y="4891320"/>
                <a:ext cx="101160" cy="4460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29" h="561">
                    <a:moveTo>
                      <a:pt x="57" y="0"/>
                    </a:moveTo>
                    <a:lnTo>
                      <a:pt x="116" y="0"/>
                    </a:lnTo>
                    <a:lnTo>
                      <a:pt x="73" y="460"/>
                    </a:lnTo>
                    <a:lnTo>
                      <a:pt x="73" y="467"/>
                    </a:lnTo>
                    <a:lnTo>
                      <a:pt x="71" y="484"/>
                    </a:lnTo>
                    <a:lnTo>
                      <a:pt x="74" y="505"/>
                    </a:lnTo>
                    <a:lnTo>
                      <a:pt x="81" y="523"/>
                    </a:lnTo>
                    <a:lnTo>
                      <a:pt x="86" y="531"/>
                    </a:lnTo>
                    <a:lnTo>
                      <a:pt x="93" y="538"/>
                    </a:lnTo>
                    <a:lnTo>
                      <a:pt x="101" y="544"/>
                    </a:lnTo>
                    <a:lnTo>
                      <a:pt x="110" y="550"/>
                    </a:lnTo>
                    <a:lnTo>
                      <a:pt x="116" y="554"/>
                    </a:lnTo>
                    <a:lnTo>
                      <a:pt x="123" y="558"/>
                    </a:lnTo>
                    <a:lnTo>
                      <a:pt x="128" y="560"/>
                    </a:lnTo>
                    <a:lnTo>
                      <a:pt x="129" y="561"/>
                    </a:lnTo>
                    <a:lnTo>
                      <a:pt x="0" y="556"/>
                    </a:lnTo>
                    <a:lnTo>
                      <a:pt x="29" y="12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4" name="Freeform 17"/>
              <p:cNvSpPr/>
              <p:nvPr/>
            </p:nvSpPr>
            <p:spPr>
              <a:xfrm>
                <a:off x="1335240" y="4864320"/>
                <a:ext cx="23400" cy="838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0" h="106">
                    <a:moveTo>
                      <a:pt x="0" y="52"/>
                    </a:moveTo>
                    <a:lnTo>
                      <a:pt x="3" y="33"/>
                    </a:lnTo>
                    <a:lnTo>
                      <a:pt x="9" y="15"/>
                    </a:lnTo>
                    <a:lnTo>
                      <a:pt x="18" y="5"/>
                    </a:lnTo>
                    <a:lnTo>
                      <a:pt x="30" y="0"/>
                    </a:lnTo>
                    <a:lnTo>
                      <a:pt x="28" y="106"/>
                    </a:lnTo>
                    <a:lnTo>
                      <a:pt x="16" y="102"/>
                    </a:lnTo>
                    <a:lnTo>
                      <a:pt x="8" y="90"/>
                    </a:lnTo>
                    <a:lnTo>
                      <a:pt x="2" y="7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5" name="Freeform 18"/>
              <p:cNvSpPr/>
              <p:nvPr/>
            </p:nvSpPr>
            <p:spPr>
              <a:xfrm>
                <a:off x="1477800" y="5029200"/>
                <a:ext cx="147600" cy="651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6" h="83">
                    <a:moveTo>
                      <a:pt x="0" y="83"/>
                    </a:moveTo>
                    <a:lnTo>
                      <a:pt x="184" y="83"/>
                    </a:lnTo>
                    <a:lnTo>
                      <a:pt x="186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6" name="Freeform 19"/>
              <p:cNvSpPr/>
              <p:nvPr/>
            </p:nvSpPr>
            <p:spPr>
              <a:xfrm>
                <a:off x="147960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1" y="0"/>
                    </a:lnTo>
                    <a:lnTo>
                      <a:pt x="0" y="74"/>
                    </a:lnTo>
                    <a:lnTo>
                      <a:pt x="184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7" name="Freeform 20"/>
              <p:cNvSpPr/>
              <p:nvPr/>
            </p:nvSpPr>
            <p:spPr>
              <a:xfrm>
                <a:off x="165744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1" y="0"/>
                    </a:lnTo>
                    <a:lnTo>
                      <a:pt x="0" y="74"/>
                    </a:lnTo>
                    <a:lnTo>
                      <a:pt x="184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8" name="Freeform 21"/>
              <p:cNvSpPr/>
              <p:nvPr/>
            </p:nvSpPr>
            <p:spPr>
              <a:xfrm>
                <a:off x="1655640" y="5029200"/>
                <a:ext cx="147240" cy="65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7" h="83">
                    <a:moveTo>
                      <a:pt x="0" y="83"/>
                    </a:moveTo>
                    <a:lnTo>
                      <a:pt x="186" y="83"/>
                    </a:lnTo>
                    <a:lnTo>
                      <a:pt x="187" y="0"/>
                    </a:lnTo>
                    <a:lnTo>
                      <a:pt x="3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9" name="Freeform 22"/>
              <p:cNvSpPr/>
              <p:nvPr/>
            </p:nvSpPr>
            <p:spPr>
              <a:xfrm>
                <a:off x="1833480" y="5029200"/>
                <a:ext cx="145800" cy="6516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4" h="83">
                    <a:moveTo>
                      <a:pt x="0" y="83"/>
                    </a:moveTo>
                    <a:lnTo>
                      <a:pt x="183" y="83"/>
                    </a:lnTo>
                    <a:lnTo>
                      <a:pt x="184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0" name="Freeform 23"/>
              <p:cNvSpPr/>
              <p:nvPr/>
            </p:nvSpPr>
            <p:spPr>
              <a:xfrm>
                <a:off x="1835280" y="4948200"/>
                <a:ext cx="145440" cy="58680"/>
              </a:xfrm>
              <a:custGeom>
                <a:avLst/>
                <a:gdLst>
                  <a:gd name="textAreaLeft" fmla="*/ 0 w 145440"/>
                  <a:gd name="textAreaRight" fmla="*/ 145440 w 1454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1" y="0"/>
                    </a:lnTo>
                    <a:lnTo>
                      <a:pt x="0" y="74"/>
                    </a:lnTo>
                    <a:lnTo>
                      <a:pt x="185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1" name="Freeform 24"/>
              <p:cNvSpPr/>
              <p:nvPr/>
            </p:nvSpPr>
            <p:spPr>
              <a:xfrm>
                <a:off x="2009880" y="5029200"/>
                <a:ext cx="147240" cy="65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5" h="83">
                    <a:moveTo>
                      <a:pt x="0" y="83"/>
                    </a:moveTo>
                    <a:lnTo>
                      <a:pt x="184" y="83"/>
                    </a:lnTo>
                    <a:lnTo>
                      <a:pt x="185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2" name="Freeform 25"/>
              <p:cNvSpPr/>
              <p:nvPr/>
            </p:nvSpPr>
            <p:spPr>
              <a:xfrm>
                <a:off x="201132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2" y="0"/>
                    </a:lnTo>
                    <a:lnTo>
                      <a:pt x="0" y="74"/>
                    </a:lnTo>
                    <a:lnTo>
                      <a:pt x="185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3" name="Freeform 26"/>
              <p:cNvSpPr/>
              <p:nvPr/>
            </p:nvSpPr>
            <p:spPr>
              <a:xfrm>
                <a:off x="2187720" y="5029200"/>
                <a:ext cx="147240" cy="65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7" h="83">
                    <a:moveTo>
                      <a:pt x="0" y="83"/>
                    </a:moveTo>
                    <a:lnTo>
                      <a:pt x="184" y="83"/>
                    </a:lnTo>
                    <a:lnTo>
                      <a:pt x="187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4" name="Freeform 27"/>
              <p:cNvSpPr/>
              <p:nvPr/>
            </p:nvSpPr>
            <p:spPr>
              <a:xfrm>
                <a:off x="218916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0"/>
                    </a:moveTo>
                    <a:lnTo>
                      <a:pt x="2" y="0"/>
                    </a:lnTo>
                    <a:lnTo>
                      <a:pt x="0" y="74"/>
                    </a:lnTo>
                    <a:lnTo>
                      <a:pt x="185" y="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5" name="Freeform 28"/>
              <p:cNvSpPr/>
              <p:nvPr/>
            </p:nvSpPr>
            <p:spPr>
              <a:xfrm>
                <a:off x="2362320" y="5029200"/>
                <a:ext cx="147240" cy="6516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86" h="83">
                    <a:moveTo>
                      <a:pt x="0" y="83"/>
                    </a:moveTo>
                    <a:lnTo>
                      <a:pt x="185" y="83"/>
                    </a:lnTo>
                    <a:lnTo>
                      <a:pt x="186" y="0"/>
                    </a:lnTo>
                    <a:lnTo>
                      <a:pt x="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6" name="Freeform 29"/>
              <p:cNvSpPr/>
              <p:nvPr/>
            </p:nvSpPr>
            <p:spPr>
              <a:xfrm>
                <a:off x="2363760" y="4948200"/>
                <a:ext cx="147240" cy="5868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87" h="74">
                    <a:moveTo>
                      <a:pt x="187" y="0"/>
                    </a:moveTo>
                    <a:lnTo>
                      <a:pt x="3" y="0"/>
                    </a:lnTo>
                    <a:lnTo>
                      <a:pt x="0" y="74"/>
                    </a:lnTo>
                    <a:lnTo>
                      <a:pt x="186" y="74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7" name="Freeform 30"/>
              <p:cNvSpPr/>
              <p:nvPr/>
            </p:nvSpPr>
            <p:spPr>
              <a:xfrm>
                <a:off x="2739960" y="5203800"/>
                <a:ext cx="266400" cy="119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35" h="151">
                    <a:moveTo>
                      <a:pt x="111" y="23"/>
                    </a:moveTo>
                    <a:lnTo>
                      <a:pt x="91" y="35"/>
                    </a:lnTo>
                    <a:lnTo>
                      <a:pt x="74" y="47"/>
                    </a:lnTo>
                    <a:lnTo>
                      <a:pt x="58" y="62"/>
                    </a:lnTo>
                    <a:lnTo>
                      <a:pt x="43" y="77"/>
                    </a:lnTo>
                    <a:lnTo>
                      <a:pt x="30" y="95"/>
                    </a:lnTo>
                    <a:lnTo>
                      <a:pt x="19" y="113"/>
                    </a:lnTo>
                    <a:lnTo>
                      <a:pt x="8" y="131"/>
                    </a:lnTo>
                    <a:lnTo>
                      <a:pt x="0" y="151"/>
                    </a:lnTo>
                    <a:lnTo>
                      <a:pt x="9" y="136"/>
                    </a:lnTo>
                    <a:lnTo>
                      <a:pt x="19" y="122"/>
                    </a:lnTo>
                    <a:lnTo>
                      <a:pt x="29" y="108"/>
                    </a:lnTo>
                    <a:lnTo>
                      <a:pt x="40" y="96"/>
                    </a:lnTo>
                    <a:lnTo>
                      <a:pt x="53" y="83"/>
                    </a:lnTo>
                    <a:lnTo>
                      <a:pt x="67" y="73"/>
                    </a:lnTo>
                    <a:lnTo>
                      <a:pt x="82" y="62"/>
                    </a:lnTo>
                    <a:lnTo>
                      <a:pt x="97" y="53"/>
                    </a:lnTo>
                    <a:lnTo>
                      <a:pt x="112" y="46"/>
                    </a:lnTo>
                    <a:lnTo>
                      <a:pt x="128" y="40"/>
                    </a:lnTo>
                    <a:lnTo>
                      <a:pt x="144" y="36"/>
                    </a:lnTo>
                    <a:lnTo>
                      <a:pt x="160" y="32"/>
                    </a:lnTo>
                    <a:lnTo>
                      <a:pt x="175" y="30"/>
                    </a:lnTo>
                    <a:lnTo>
                      <a:pt x="191" y="30"/>
                    </a:lnTo>
                    <a:lnTo>
                      <a:pt x="208" y="30"/>
                    </a:lnTo>
                    <a:lnTo>
                      <a:pt x="223" y="31"/>
                    </a:lnTo>
                    <a:lnTo>
                      <a:pt x="239" y="35"/>
                    </a:lnTo>
                    <a:lnTo>
                      <a:pt x="254" y="38"/>
                    </a:lnTo>
                    <a:lnTo>
                      <a:pt x="269" y="44"/>
                    </a:lnTo>
                    <a:lnTo>
                      <a:pt x="282" y="50"/>
                    </a:lnTo>
                    <a:lnTo>
                      <a:pt x="296" y="56"/>
                    </a:lnTo>
                    <a:lnTo>
                      <a:pt x="310" y="66"/>
                    </a:lnTo>
                    <a:lnTo>
                      <a:pt x="323" y="75"/>
                    </a:lnTo>
                    <a:lnTo>
                      <a:pt x="334" y="85"/>
                    </a:lnTo>
                    <a:lnTo>
                      <a:pt x="335" y="44"/>
                    </a:lnTo>
                    <a:lnTo>
                      <a:pt x="324" y="36"/>
                    </a:lnTo>
                    <a:lnTo>
                      <a:pt x="311" y="28"/>
                    </a:lnTo>
                    <a:lnTo>
                      <a:pt x="299" y="21"/>
                    </a:lnTo>
                    <a:lnTo>
                      <a:pt x="285" y="15"/>
                    </a:lnTo>
                    <a:lnTo>
                      <a:pt x="271" y="9"/>
                    </a:lnTo>
                    <a:lnTo>
                      <a:pt x="257" y="6"/>
                    </a:lnTo>
                    <a:lnTo>
                      <a:pt x="243" y="2"/>
                    </a:lnTo>
                    <a:lnTo>
                      <a:pt x="228" y="0"/>
                    </a:lnTo>
                    <a:lnTo>
                      <a:pt x="213" y="0"/>
                    </a:lnTo>
                    <a:lnTo>
                      <a:pt x="198" y="0"/>
                    </a:lnTo>
                    <a:lnTo>
                      <a:pt x="185" y="1"/>
                    </a:lnTo>
                    <a:lnTo>
                      <a:pt x="170" y="3"/>
                    </a:lnTo>
                    <a:lnTo>
                      <a:pt x="155" y="6"/>
                    </a:lnTo>
                    <a:lnTo>
                      <a:pt x="140" y="10"/>
                    </a:lnTo>
                    <a:lnTo>
                      <a:pt x="125" y="16"/>
                    </a:lnTo>
                    <a:lnTo>
                      <a:pt x="1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8" name="Freeform 31"/>
              <p:cNvSpPr/>
              <p:nvPr/>
            </p:nvSpPr>
            <p:spPr>
              <a:xfrm>
                <a:off x="2016000" y="5272200"/>
                <a:ext cx="982440" cy="22860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38" h="289">
                    <a:moveTo>
                      <a:pt x="1169" y="19"/>
                    </a:moveTo>
                    <a:lnTo>
                      <a:pt x="1162" y="14"/>
                    </a:lnTo>
                    <a:lnTo>
                      <a:pt x="1154" y="11"/>
                    </a:lnTo>
                    <a:lnTo>
                      <a:pt x="1146" y="8"/>
                    </a:lnTo>
                    <a:lnTo>
                      <a:pt x="1138" y="5"/>
                    </a:lnTo>
                    <a:lnTo>
                      <a:pt x="1130" y="3"/>
                    </a:lnTo>
                    <a:lnTo>
                      <a:pt x="1122" y="1"/>
                    </a:lnTo>
                    <a:lnTo>
                      <a:pt x="1112" y="0"/>
                    </a:lnTo>
                    <a:lnTo>
                      <a:pt x="1104" y="0"/>
                    </a:lnTo>
                    <a:lnTo>
                      <a:pt x="1094" y="0"/>
                    </a:lnTo>
                    <a:lnTo>
                      <a:pt x="1084" y="1"/>
                    </a:lnTo>
                    <a:lnTo>
                      <a:pt x="1073" y="4"/>
                    </a:lnTo>
                    <a:lnTo>
                      <a:pt x="1064" y="7"/>
                    </a:lnTo>
                    <a:lnTo>
                      <a:pt x="1055" y="11"/>
                    </a:lnTo>
                    <a:lnTo>
                      <a:pt x="1046" y="15"/>
                    </a:lnTo>
                    <a:lnTo>
                      <a:pt x="1036" y="20"/>
                    </a:lnTo>
                    <a:lnTo>
                      <a:pt x="1028" y="26"/>
                    </a:lnTo>
                    <a:lnTo>
                      <a:pt x="1016" y="35"/>
                    </a:lnTo>
                    <a:lnTo>
                      <a:pt x="1005" y="45"/>
                    </a:lnTo>
                    <a:lnTo>
                      <a:pt x="995" y="57"/>
                    </a:lnTo>
                    <a:lnTo>
                      <a:pt x="987" y="69"/>
                    </a:lnTo>
                    <a:lnTo>
                      <a:pt x="979" y="82"/>
                    </a:lnTo>
                    <a:lnTo>
                      <a:pt x="973" y="97"/>
                    </a:lnTo>
                    <a:lnTo>
                      <a:pt x="970" y="112"/>
                    </a:lnTo>
                    <a:lnTo>
                      <a:pt x="966" y="128"/>
                    </a:lnTo>
                    <a:lnTo>
                      <a:pt x="0" y="147"/>
                    </a:lnTo>
                    <a:lnTo>
                      <a:pt x="965" y="162"/>
                    </a:lnTo>
                    <a:lnTo>
                      <a:pt x="970" y="188"/>
                    </a:lnTo>
                    <a:lnTo>
                      <a:pt x="979" y="211"/>
                    </a:lnTo>
                    <a:lnTo>
                      <a:pt x="991" y="233"/>
                    </a:lnTo>
                    <a:lnTo>
                      <a:pt x="1008" y="253"/>
                    </a:lnTo>
                    <a:lnTo>
                      <a:pt x="1026" y="268"/>
                    </a:lnTo>
                    <a:lnTo>
                      <a:pt x="1048" y="279"/>
                    </a:lnTo>
                    <a:lnTo>
                      <a:pt x="1072" y="287"/>
                    </a:lnTo>
                    <a:lnTo>
                      <a:pt x="1098" y="289"/>
                    </a:lnTo>
                    <a:lnTo>
                      <a:pt x="1125" y="286"/>
                    </a:lnTo>
                    <a:lnTo>
                      <a:pt x="1152" y="278"/>
                    </a:lnTo>
                    <a:lnTo>
                      <a:pt x="1175" y="265"/>
                    </a:lnTo>
                    <a:lnTo>
                      <a:pt x="1195" y="247"/>
                    </a:lnTo>
                    <a:lnTo>
                      <a:pt x="1213" y="226"/>
                    </a:lnTo>
                    <a:lnTo>
                      <a:pt x="1225" y="202"/>
                    </a:lnTo>
                    <a:lnTo>
                      <a:pt x="1235" y="174"/>
                    </a:lnTo>
                    <a:lnTo>
                      <a:pt x="1238" y="145"/>
                    </a:lnTo>
                    <a:lnTo>
                      <a:pt x="1237" y="126"/>
                    </a:lnTo>
                    <a:lnTo>
                      <a:pt x="1233" y="106"/>
                    </a:lnTo>
                    <a:lnTo>
                      <a:pt x="1228" y="88"/>
                    </a:lnTo>
                    <a:lnTo>
                      <a:pt x="1220" y="71"/>
                    </a:lnTo>
                    <a:lnTo>
                      <a:pt x="1210" y="56"/>
                    </a:lnTo>
                    <a:lnTo>
                      <a:pt x="1198" y="41"/>
                    </a:lnTo>
                    <a:lnTo>
                      <a:pt x="1184" y="29"/>
                    </a:lnTo>
                    <a:lnTo>
                      <a:pt x="116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9" name="Rectangle 32"/>
              <p:cNvSpPr/>
              <p:nvPr/>
            </p:nvSpPr>
            <p:spPr>
              <a:xfrm>
                <a:off x="1413000" y="4894200"/>
                <a:ext cx="73764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0" name="Rectangle 33"/>
              <p:cNvSpPr/>
              <p:nvPr/>
            </p:nvSpPr>
            <p:spPr>
              <a:xfrm>
                <a:off x="1479600" y="5129280"/>
                <a:ext cx="6300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1" name="Freeform 34"/>
              <p:cNvSpPr/>
              <p:nvPr/>
            </p:nvSpPr>
            <p:spPr>
              <a:xfrm>
                <a:off x="1422360" y="5200560"/>
                <a:ext cx="1063440" cy="25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39" h="32">
                    <a:moveTo>
                      <a:pt x="0" y="32"/>
                    </a:moveTo>
                    <a:lnTo>
                      <a:pt x="0" y="0"/>
                    </a:lnTo>
                    <a:lnTo>
                      <a:pt x="1339" y="1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2" name="Freeform 35"/>
              <p:cNvSpPr/>
              <p:nvPr/>
            </p:nvSpPr>
            <p:spPr>
              <a:xfrm>
                <a:off x="1967040" y="5315040"/>
                <a:ext cx="780480" cy="2520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84" h="31">
                    <a:moveTo>
                      <a:pt x="971" y="31"/>
                    </a:moveTo>
                    <a:lnTo>
                      <a:pt x="984" y="0"/>
                    </a:lnTo>
                    <a:lnTo>
                      <a:pt x="0" y="5"/>
                    </a:lnTo>
                    <a:lnTo>
                      <a:pt x="97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3" name="Freeform 36"/>
              <p:cNvSpPr/>
              <p:nvPr/>
            </p:nvSpPr>
            <p:spPr>
              <a:xfrm>
                <a:off x="1419120" y="5184720"/>
                <a:ext cx="1087200" cy="23760"/>
              </a:xfrm>
              <a:custGeom>
                <a:avLst/>
                <a:gdLst>
                  <a:gd name="textAreaLeft" fmla="*/ 0 w 1087200"/>
                  <a:gd name="textAreaRight" fmla="*/ 1087560 w 10872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70" h="31">
                    <a:moveTo>
                      <a:pt x="0" y="31"/>
                    </a:moveTo>
                    <a:lnTo>
                      <a:pt x="0" y="0"/>
                    </a:lnTo>
                    <a:lnTo>
                      <a:pt x="1370" y="1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4" name="Rectangle 37"/>
              <p:cNvSpPr/>
              <p:nvPr/>
            </p:nvSpPr>
            <p:spPr>
              <a:xfrm>
                <a:off x="2643120" y="4932360"/>
                <a:ext cx="64800" cy="36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5" name="Rectangle 38"/>
              <p:cNvSpPr/>
              <p:nvPr/>
            </p:nvSpPr>
            <p:spPr>
              <a:xfrm>
                <a:off x="2557440" y="4932360"/>
                <a:ext cx="66240" cy="36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6" name="Freeform 39"/>
              <p:cNvSpPr/>
              <p:nvPr/>
            </p:nvSpPr>
            <p:spPr>
              <a:xfrm>
                <a:off x="1535040" y="4822920"/>
                <a:ext cx="1555560" cy="600120"/>
              </a:xfrm>
              <a:custGeom>
                <a:avLst/>
                <a:gdLst>
                  <a:gd name="textAreaLeft" fmla="*/ 0 w 1555560"/>
                  <a:gd name="textAreaRight" fmla="*/ 1555920 w 155556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1959" h="756">
                    <a:moveTo>
                      <a:pt x="1923" y="606"/>
                    </a:moveTo>
                    <a:lnTo>
                      <a:pt x="1928" y="402"/>
                    </a:lnTo>
                    <a:lnTo>
                      <a:pt x="1927" y="389"/>
                    </a:lnTo>
                    <a:lnTo>
                      <a:pt x="1924" y="378"/>
                    </a:lnTo>
                    <a:lnTo>
                      <a:pt x="1918" y="366"/>
                    </a:lnTo>
                    <a:lnTo>
                      <a:pt x="1911" y="357"/>
                    </a:lnTo>
                    <a:lnTo>
                      <a:pt x="1902" y="349"/>
                    </a:lnTo>
                    <a:lnTo>
                      <a:pt x="1892" y="343"/>
                    </a:lnTo>
                    <a:lnTo>
                      <a:pt x="1881" y="340"/>
                    </a:lnTo>
                    <a:lnTo>
                      <a:pt x="1868" y="338"/>
                    </a:lnTo>
                    <a:lnTo>
                      <a:pt x="1592" y="338"/>
                    </a:lnTo>
                    <a:lnTo>
                      <a:pt x="1598" y="75"/>
                    </a:lnTo>
                    <a:lnTo>
                      <a:pt x="1596" y="62"/>
                    </a:lnTo>
                    <a:lnTo>
                      <a:pt x="1594" y="48"/>
                    </a:lnTo>
                    <a:lnTo>
                      <a:pt x="1588" y="35"/>
                    </a:lnTo>
                    <a:lnTo>
                      <a:pt x="1582" y="24"/>
                    </a:lnTo>
                    <a:lnTo>
                      <a:pt x="1572" y="15"/>
                    </a:lnTo>
                    <a:lnTo>
                      <a:pt x="1562" y="7"/>
                    </a:lnTo>
                    <a:lnTo>
                      <a:pt x="1552" y="2"/>
                    </a:lnTo>
                    <a:lnTo>
                      <a:pt x="1539" y="0"/>
                    </a:lnTo>
                    <a:lnTo>
                      <a:pt x="0" y="14"/>
                    </a:lnTo>
                    <a:lnTo>
                      <a:pt x="1520" y="56"/>
                    </a:lnTo>
                    <a:lnTo>
                      <a:pt x="1532" y="58"/>
                    </a:lnTo>
                    <a:lnTo>
                      <a:pt x="1542" y="64"/>
                    </a:lnTo>
                    <a:lnTo>
                      <a:pt x="1552" y="72"/>
                    </a:lnTo>
                    <a:lnTo>
                      <a:pt x="1560" y="83"/>
                    </a:lnTo>
                    <a:lnTo>
                      <a:pt x="1567" y="94"/>
                    </a:lnTo>
                    <a:lnTo>
                      <a:pt x="1571" y="107"/>
                    </a:lnTo>
                    <a:lnTo>
                      <a:pt x="1573" y="120"/>
                    </a:lnTo>
                    <a:lnTo>
                      <a:pt x="1573" y="132"/>
                    </a:lnTo>
                    <a:lnTo>
                      <a:pt x="1572" y="143"/>
                    </a:lnTo>
                    <a:lnTo>
                      <a:pt x="1537" y="143"/>
                    </a:lnTo>
                    <a:lnTo>
                      <a:pt x="1537" y="343"/>
                    </a:lnTo>
                    <a:lnTo>
                      <a:pt x="1558" y="343"/>
                    </a:lnTo>
                    <a:lnTo>
                      <a:pt x="1555" y="383"/>
                    </a:lnTo>
                    <a:lnTo>
                      <a:pt x="1818" y="398"/>
                    </a:lnTo>
                    <a:lnTo>
                      <a:pt x="1829" y="401"/>
                    </a:lnTo>
                    <a:lnTo>
                      <a:pt x="1840" y="404"/>
                    </a:lnTo>
                    <a:lnTo>
                      <a:pt x="1850" y="411"/>
                    </a:lnTo>
                    <a:lnTo>
                      <a:pt x="1858" y="418"/>
                    </a:lnTo>
                    <a:lnTo>
                      <a:pt x="1864" y="427"/>
                    </a:lnTo>
                    <a:lnTo>
                      <a:pt x="1868" y="438"/>
                    </a:lnTo>
                    <a:lnTo>
                      <a:pt x="1872" y="449"/>
                    </a:lnTo>
                    <a:lnTo>
                      <a:pt x="1872" y="462"/>
                    </a:lnTo>
                    <a:lnTo>
                      <a:pt x="1870" y="484"/>
                    </a:lnTo>
                    <a:lnTo>
                      <a:pt x="1879" y="491"/>
                    </a:lnTo>
                    <a:lnTo>
                      <a:pt x="1887" y="502"/>
                    </a:lnTo>
                    <a:lnTo>
                      <a:pt x="1892" y="518"/>
                    </a:lnTo>
                    <a:lnTo>
                      <a:pt x="1893" y="537"/>
                    </a:lnTo>
                    <a:lnTo>
                      <a:pt x="1890" y="557"/>
                    </a:lnTo>
                    <a:lnTo>
                      <a:pt x="1883" y="574"/>
                    </a:lnTo>
                    <a:lnTo>
                      <a:pt x="1874" y="585"/>
                    </a:lnTo>
                    <a:lnTo>
                      <a:pt x="1864" y="591"/>
                    </a:lnTo>
                    <a:lnTo>
                      <a:pt x="1862" y="678"/>
                    </a:lnTo>
                    <a:lnTo>
                      <a:pt x="1832" y="678"/>
                    </a:lnTo>
                    <a:lnTo>
                      <a:pt x="1830" y="722"/>
                    </a:lnTo>
                    <a:lnTo>
                      <a:pt x="1842" y="722"/>
                    </a:lnTo>
                    <a:lnTo>
                      <a:pt x="1852" y="723"/>
                    </a:lnTo>
                    <a:lnTo>
                      <a:pt x="1859" y="724"/>
                    </a:lnTo>
                    <a:lnTo>
                      <a:pt x="1865" y="726"/>
                    </a:lnTo>
                    <a:lnTo>
                      <a:pt x="1868" y="727"/>
                    </a:lnTo>
                    <a:lnTo>
                      <a:pt x="1872" y="728"/>
                    </a:lnTo>
                    <a:lnTo>
                      <a:pt x="1874" y="728"/>
                    </a:lnTo>
                    <a:lnTo>
                      <a:pt x="1877" y="728"/>
                    </a:lnTo>
                    <a:lnTo>
                      <a:pt x="1877" y="749"/>
                    </a:lnTo>
                    <a:lnTo>
                      <a:pt x="1879" y="750"/>
                    </a:lnTo>
                    <a:lnTo>
                      <a:pt x="1886" y="751"/>
                    </a:lnTo>
                    <a:lnTo>
                      <a:pt x="1896" y="753"/>
                    </a:lnTo>
                    <a:lnTo>
                      <a:pt x="1908" y="754"/>
                    </a:lnTo>
                    <a:lnTo>
                      <a:pt x="1920" y="756"/>
                    </a:lnTo>
                    <a:lnTo>
                      <a:pt x="1932" y="756"/>
                    </a:lnTo>
                    <a:lnTo>
                      <a:pt x="1941" y="753"/>
                    </a:lnTo>
                    <a:lnTo>
                      <a:pt x="1948" y="749"/>
                    </a:lnTo>
                    <a:lnTo>
                      <a:pt x="1956" y="724"/>
                    </a:lnTo>
                    <a:lnTo>
                      <a:pt x="1959" y="686"/>
                    </a:lnTo>
                    <a:lnTo>
                      <a:pt x="1958" y="648"/>
                    </a:lnTo>
                    <a:lnTo>
                      <a:pt x="1954" y="624"/>
                    </a:lnTo>
                    <a:lnTo>
                      <a:pt x="1946" y="615"/>
                    </a:lnTo>
                    <a:lnTo>
                      <a:pt x="1935" y="609"/>
                    </a:lnTo>
                    <a:lnTo>
                      <a:pt x="1926" y="607"/>
                    </a:lnTo>
                    <a:lnTo>
                      <a:pt x="1923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7" name="Freeform 40"/>
              <p:cNvSpPr/>
              <p:nvPr/>
            </p:nvSpPr>
            <p:spPr>
              <a:xfrm>
                <a:off x="1327320" y="4834080"/>
                <a:ext cx="610920" cy="67788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771" h="854">
                    <a:moveTo>
                      <a:pt x="771" y="700"/>
                    </a:moveTo>
                    <a:lnTo>
                      <a:pt x="765" y="659"/>
                    </a:lnTo>
                    <a:lnTo>
                      <a:pt x="753" y="625"/>
                    </a:lnTo>
                    <a:lnTo>
                      <a:pt x="736" y="595"/>
                    </a:lnTo>
                    <a:lnTo>
                      <a:pt x="715" y="571"/>
                    </a:lnTo>
                    <a:lnTo>
                      <a:pt x="690" y="552"/>
                    </a:lnTo>
                    <a:lnTo>
                      <a:pt x="662" y="538"/>
                    </a:lnTo>
                    <a:lnTo>
                      <a:pt x="633" y="530"/>
                    </a:lnTo>
                    <a:lnTo>
                      <a:pt x="604" y="528"/>
                    </a:lnTo>
                    <a:lnTo>
                      <a:pt x="576" y="530"/>
                    </a:lnTo>
                    <a:lnTo>
                      <a:pt x="549" y="537"/>
                    </a:lnTo>
                    <a:lnTo>
                      <a:pt x="524" y="549"/>
                    </a:lnTo>
                    <a:lnTo>
                      <a:pt x="502" y="564"/>
                    </a:lnTo>
                    <a:lnTo>
                      <a:pt x="483" y="582"/>
                    </a:lnTo>
                    <a:lnTo>
                      <a:pt x="465" y="603"/>
                    </a:lnTo>
                    <a:lnTo>
                      <a:pt x="451" y="627"/>
                    </a:lnTo>
                    <a:lnTo>
                      <a:pt x="441" y="653"/>
                    </a:lnTo>
                    <a:lnTo>
                      <a:pt x="134" y="656"/>
                    </a:lnTo>
                    <a:lnTo>
                      <a:pt x="123" y="654"/>
                    </a:lnTo>
                    <a:lnTo>
                      <a:pt x="113" y="649"/>
                    </a:lnTo>
                    <a:lnTo>
                      <a:pt x="102" y="643"/>
                    </a:lnTo>
                    <a:lnTo>
                      <a:pt x="94" y="635"/>
                    </a:lnTo>
                    <a:lnTo>
                      <a:pt x="88" y="626"/>
                    </a:lnTo>
                    <a:lnTo>
                      <a:pt x="84" y="616"/>
                    </a:lnTo>
                    <a:lnTo>
                      <a:pt x="80" y="604"/>
                    </a:lnTo>
                    <a:lnTo>
                      <a:pt x="80" y="591"/>
                    </a:lnTo>
                    <a:lnTo>
                      <a:pt x="99" y="345"/>
                    </a:lnTo>
                    <a:lnTo>
                      <a:pt x="101" y="346"/>
                    </a:lnTo>
                    <a:lnTo>
                      <a:pt x="103" y="346"/>
                    </a:lnTo>
                    <a:lnTo>
                      <a:pt x="105" y="346"/>
                    </a:lnTo>
                    <a:lnTo>
                      <a:pt x="107" y="346"/>
                    </a:lnTo>
                    <a:lnTo>
                      <a:pt x="116" y="344"/>
                    </a:lnTo>
                    <a:lnTo>
                      <a:pt x="124" y="339"/>
                    </a:lnTo>
                    <a:lnTo>
                      <a:pt x="129" y="332"/>
                    </a:lnTo>
                    <a:lnTo>
                      <a:pt x="131" y="323"/>
                    </a:lnTo>
                    <a:lnTo>
                      <a:pt x="131" y="166"/>
                    </a:lnTo>
                    <a:lnTo>
                      <a:pt x="130" y="158"/>
                    </a:lnTo>
                    <a:lnTo>
                      <a:pt x="126" y="152"/>
                    </a:lnTo>
                    <a:lnTo>
                      <a:pt x="121" y="147"/>
                    </a:lnTo>
                    <a:lnTo>
                      <a:pt x="114" y="143"/>
                    </a:lnTo>
                    <a:lnTo>
                      <a:pt x="122" y="28"/>
                    </a:lnTo>
                    <a:lnTo>
                      <a:pt x="123" y="20"/>
                    </a:lnTo>
                    <a:lnTo>
                      <a:pt x="125" y="13"/>
                    </a:lnTo>
                    <a:lnTo>
                      <a:pt x="128" y="6"/>
                    </a:lnTo>
                    <a:lnTo>
                      <a:pt x="131" y="0"/>
                    </a:lnTo>
                    <a:lnTo>
                      <a:pt x="124" y="0"/>
                    </a:lnTo>
                    <a:lnTo>
                      <a:pt x="111" y="2"/>
                    </a:lnTo>
                    <a:lnTo>
                      <a:pt x="100" y="5"/>
                    </a:lnTo>
                    <a:lnTo>
                      <a:pt x="90" y="11"/>
                    </a:lnTo>
                    <a:lnTo>
                      <a:pt x="80" y="19"/>
                    </a:lnTo>
                    <a:lnTo>
                      <a:pt x="72" y="28"/>
                    </a:lnTo>
                    <a:lnTo>
                      <a:pt x="66" y="38"/>
                    </a:lnTo>
                    <a:lnTo>
                      <a:pt x="63" y="50"/>
                    </a:lnTo>
                    <a:lnTo>
                      <a:pt x="62" y="63"/>
                    </a:lnTo>
                    <a:lnTo>
                      <a:pt x="55" y="359"/>
                    </a:lnTo>
                    <a:lnTo>
                      <a:pt x="46" y="366"/>
                    </a:lnTo>
                    <a:lnTo>
                      <a:pt x="39" y="377"/>
                    </a:lnTo>
                    <a:lnTo>
                      <a:pt x="33" y="392"/>
                    </a:lnTo>
                    <a:lnTo>
                      <a:pt x="31" y="411"/>
                    </a:lnTo>
                    <a:lnTo>
                      <a:pt x="32" y="429"/>
                    </a:lnTo>
                    <a:lnTo>
                      <a:pt x="37" y="444"/>
                    </a:lnTo>
                    <a:lnTo>
                      <a:pt x="43" y="457"/>
                    </a:lnTo>
                    <a:lnTo>
                      <a:pt x="53" y="464"/>
                    </a:lnTo>
                    <a:lnTo>
                      <a:pt x="49" y="575"/>
                    </a:lnTo>
                    <a:lnTo>
                      <a:pt x="3" y="575"/>
                    </a:lnTo>
                    <a:lnTo>
                      <a:pt x="0" y="732"/>
                    </a:lnTo>
                    <a:lnTo>
                      <a:pt x="100" y="730"/>
                    </a:lnTo>
                    <a:lnTo>
                      <a:pt x="100" y="709"/>
                    </a:lnTo>
                    <a:lnTo>
                      <a:pt x="469" y="700"/>
                    </a:lnTo>
                    <a:lnTo>
                      <a:pt x="471" y="696"/>
                    </a:lnTo>
                    <a:lnTo>
                      <a:pt x="471" y="700"/>
                    </a:lnTo>
                    <a:lnTo>
                      <a:pt x="471" y="703"/>
                    </a:lnTo>
                    <a:lnTo>
                      <a:pt x="471" y="707"/>
                    </a:lnTo>
                    <a:lnTo>
                      <a:pt x="471" y="710"/>
                    </a:lnTo>
                    <a:lnTo>
                      <a:pt x="473" y="739"/>
                    </a:lnTo>
                    <a:lnTo>
                      <a:pt x="480" y="767"/>
                    </a:lnTo>
                    <a:lnTo>
                      <a:pt x="492" y="791"/>
                    </a:lnTo>
                    <a:lnTo>
                      <a:pt x="509" y="812"/>
                    </a:lnTo>
                    <a:lnTo>
                      <a:pt x="529" y="830"/>
                    </a:lnTo>
                    <a:lnTo>
                      <a:pt x="552" y="843"/>
                    </a:lnTo>
                    <a:lnTo>
                      <a:pt x="577" y="851"/>
                    </a:lnTo>
                    <a:lnTo>
                      <a:pt x="605" y="854"/>
                    </a:lnTo>
                    <a:lnTo>
                      <a:pt x="632" y="852"/>
                    </a:lnTo>
                    <a:lnTo>
                      <a:pt x="658" y="844"/>
                    </a:lnTo>
                    <a:lnTo>
                      <a:pt x="681" y="831"/>
                    </a:lnTo>
                    <a:lnTo>
                      <a:pt x="701" y="814"/>
                    </a:lnTo>
                    <a:lnTo>
                      <a:pt x="719" y="794"/>
                    </a:lnTo>
                    <a:lnTo>
                      <a:pt x="731" y="770"/>
                    </a:lnTo>
                    <a:lnTo>
                      <a:pt x="740" y="744"/>
                    </a:lnTo>
                    <a:lnTo>
                      <a:pt x="743" y="715"/>
                    </a:lnTo>
                    <a:lnTo>
                      <a:pt x="743" y="711"/>
                    </a:lnTo>
                    <a:lnTo>
                      <a:pt x="743" y="708"/>
                    </a:lnTo>
                    <a:lnTo>
                      <a:pt x="743" y="704"/>
                    </a:lnTo>
                    <a:lnTo>
                      <a:pt x="743" y="701"/>
                    </a:lnTo>
                    <a:lnTo>
                      <a:pt x="771" y="7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8" name="Freeform 41"/>
              <p:cNvSpPr/>
              <p:nvPr/>
            </p:nvSpPr>
            <p:spPr>
              <a:xfrm>
                <a:off x="1762200" y="5346720"/>
                <a:ext cx="91800" cy="936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8" h="117">
                    <a:moveTo>
                      <a:pt x="59" y="117"/>
                    </a:moveTo>
                    <a:lnTo>
                      <a:pt x="70" y="116"/>
                    </a:lnTo>
                    <a:lnTo>
                      <a:pt x="82" y="113"/>
                    </a:lnTo>
                    <a:lnTo>
                      <a:pt x="91" y="107"/>
                    </a:lnTo>
                    <a:lnTo>
                      <a:pt x="100" y="100"/>
                    </a:lnTo>
                    <a:lnTo>
                      <a:pt x="107" y="91"/>
                    </a:lnTo>
                    <a:lnTo>
                      <a:pt x="113" y="82"/>
                    </a:lnTo>
                    <a:lnTo>
                      <a:pt x="116" y="70"/>
                    </a:lnTo>
                    <a:lnTo>
                      <a:pt x="118" y="59"/>
                    </a:lnTo>
                    <a:lnTo>
                      <a:pt x="116" y="47"/>
                    </a:lnTo>
                    <a:lnTo>
                      <a:pt x="113" y="36"/>
                    </a:lnTo>
                    <a:lnTo>
                      <a:pt x="107" y="26"/>
                    </a:lnTo>
                    <a:lnTo>
                      <a:pt x="100" y="17"/>
                    </a:lnTo>
                    <a:lnTo>
                      <a:pt x="91" y="10"/>
                    </a:lnTo>
                    <a:lnTo>
                      <a:pt x="82" y="5"/>
                    </a:lnTo>
                    <a:lnTo>
                      <a:pt x="70" y="1"/>
                    </a:lnTo>
                    <a:lnTo>
                      <a:pt x="59" y="0"/>
                    </a:lnTo>
                    <a:lnTo>
                      <a:pt x="47" y="1"/>
                    </a:lnTo>
                    <a:lnTo>
                      <a:pt x="36" y="5"/>
                    </a:lnTo>
                    <a:lnTo>
                      <a:pt x="27" y="10"/>
                    </a:lnTo>
                    <a:lnTo>
                      <a:pt x="17" y="17"/>
                    </a:lnTo>
                    <a:lnTo>
                      <a:pt x="10" y="26"/>
                    </a:lnTo>
                    <a:lnTo>
                      <a:pt x="5" y="36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0"/>
                    </a:lnTo>
                    <a:lnTo>
                      <a:pt x="5" y="82"/>
                    </a:lnTo>
                    <a:lnTo>
                      <a:pt x="10" y="91"/>
                    </a:lnTo>
                    <a:lnTo>
                      <a:pt x="17" y="100"/>
                    </a:lnTo>
                    <a:lnTo>
                      <a:pt x="27" y="107"/>
                    </a:lnTo>
                    <a:lnTo>
                      <a:pt x="36" y="113"/>
                    </a:lnTo>
                    <a:lnTo>
                      <a:pt x="47" y="116"/>
                    </a:lnTo>
                    <a:lnTo>
                      <a:pt x="59" y="117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1787400" y="5361120"/>
                <a:ext cx="53640" cy="633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68" h="81">
                    <a:moveTo>
                      <a:pt x="68" y="42"/>
                    </a:moveTo>
                    <a:lnTo>
                      <a:pt x="67" y="34"/>
                    </a:lnTo>
                    <a:lnTo>
                      <a:pt x="65" y="26"/>
                    </a:lnTo>
                    <a:lnTo>
                      <a:pt x="62" y="19"/>
                    </a:lnTo>
                    <a:lnTo>
                      <a:pt x="56" y="12"/>
                    </a:lnTo>
                    <a:lnTo>
                      <a:pt x="49" y="7"/>
                    </a:lnTo>
                    <a:lnTo>
                      <a:pt x="42" y="4"/>
                    </a:lnTo>
                    <a:lnTo>
                      <a:pt x="34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2" y="3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15" y="9"/>
                    </a:lnTo>
                    <a:lnTo>
                      <a:pt x="24" y="12"/>
                    </a:lnTo>
                    <a:lnTo>
                      <a:pt x="32" y="16"/>
                    </a:lnTo>
                    <a:lnTo>
                      <a:pt x="38" y="21"/>
                    </a:lnTo>
                    <a:lnTo>
                      <a:pt x="43" y="28"/>
                    </a:lnTo>
                    <a:lnTo>
                      <a:pt x="48" y="36"/>
                    </a:lnTo>
                    <a:lnTo>
                      <a:pt x="50" y="44"/>
                    </a:lnTo>
                    <a:lnTo>
                      <a:pt x="51" y="53"/>
                    </a:lnTo>
                    <a:lnTo>
                      <a:pt x="50" y="61"/>
                    </a:lnTo>
                    <a:lnTo>
                      <a:pt x="49" y="68"/>
                    </a:lnTo>
                    <a:lnTo>
                      <a:pt x="45" y="75"/>
                    </a:lnTo>
                    <a:lnTo>
                      <a:pt x="42" y="81"/>
                    </a:lnTo>
                    <a:lnTo>
                      <a:pt x="52" y="74"/>
                    </a:lnTo>
                    <a:lnTo>
                      <a:pt x="60" y="65"/>
                    </a:lnTo>
                    <a:lnTo>
                      <a:pt x="66" y="5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f2e2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2843280" y="5338800"/>
                <a:ext cx="93240" cy="92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8" h="116">
                    <a:moveTo>
                      <a:pt x="59" y="116"/>
                    </a:moveTo>
                    <a:lnTo>
                      <a:pt x="71" y="115"/>
                    </a:lnTo>
                    <a:lnTo>
                      <a:pt x="82" y="111"/>
                    </a:lnTo>
                    <a:lnTo>
                      <a:pt x="91" y="107"/>
                    </a:lnTo>
                    <a:lnTo>
                      <a:pt x="101" y="99"/>
                    </a:lnTo>
                    <a:lnTo>
                      <a:pt x="108" y="91"/>
                    </a:lnTo>
                    <a:lnTo>
                      <a:pt x="113" y="81"/>
                    </a:lnTo>
                    <a:lnTo>
                      <a:pt x="117" y="70"/>
                    </a:lnTo>
                    <a:lnTo>
                      <a:pt x="118" y="58"/>
                    </a:lnTo>
                    <a:lnTo>
                      <a:pt x="117" y="47"/>
                    </a:lnTo>
                    <a:lnTo>
                      <a:pt x="113" y="35"/>
                    </a:lnTo>
                    <a:lnTo>
                      <a:pt x="108" y="26"/>
                    </a:lnTo>
                    <a:lnTo>
                      <a:pt x="101" y="17"/>
                    </a:lnTo>
                    <a:lnTo>
                      <a:pt x="91" y="10"/>
                    </a:lnTo>
                    <a:lnTo>
                      <a:pt x="82" y="4"/>
                    </a:lnTo>
                    <a:lnTo>
                      <a:pt x="71" y="1"/>
                    </a:lnTo>
                    <a:lnTo>
                      <a:pt x="59" y="0"/>
                    </a:lnTo>
                    <a:lnTo>
                      <a:pt x="48" y="1"/>
                    </a:lnTo>
                    <a:lnTo>
                      <a:pt x="36" y="4"/>
                    </a:lnTo>
                    <a:lnTo>
                      <a:pt x="27" y="10"/>
                    </a:lnTo>
                    <a:lnTo>
                      <a:pt x="18" y="17"/>
                    </a:lnTo>
                    <a:lnTo>
                      <a:pt x="11" y="26"/>
                    </a:lnTo>
                    <a:lnTo>
                      <a:pt x="5" y="35"/>
                    </a:lnTo>
                    <a:lnTo>
                      <a:pt x="1" y="47"/>
                    </a:lnTo>
                    <a:lnTo>
                      <a:pt x="0" y="58"/>
                    </a:lnTo>
                    <a:lnTo>
                      <a:pt x="1" y="70"/>
                    </a:lnTo>
                    <a:lnTo>
                      <a:pt x="5" y="81"/>
                    </a:lnTo>
                    <a:lnTo>
                      <a:pt x="11" y="91"/>
                    </a:lnTo>
                    <a:lnTo>
                      <a:pt x="18" y="99"/>
                    </a:lnTo>
                    <a:lnTo>
                      <a:pt x="27" y="107"/>
                    </a:lnTo>
                    <a:lnTo>
                      <a:pt x="36" y="111"/>
                    </a:lnTo>
                    <a:lnTo>
                      <a:pt x="48" y="115"/>
                    </a:lnTo>
                    <a:lnTo>
                      <a:pt x="59" y="116"/>
                    </a:lnTo>
                    <a:close/>
                  </a:path>
                </a:pathLst>
              </a:custGeom>
              <a:solidFill>
                <a:srgbClr val="c9b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2870280" y="5351400"/>
                <a:ext cx="53640" cy="651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68" h="81">
                    <a:moveTo>
                      <a:pt x="68" y="42"/>
                    </a:moveTo>
                    <a:lnTo>
                      <a:pt x="67" y="33"/>
                    </a:lnTo>
                    <a:lnTo>
                      <a:pt x="64" y="25"/>
                    </a:lnTo>
                    <a:lnTo>
                      <a:pt x="61" y="18"/>
                    </a:lnTo>
                    <a:lnTo>
                      <a:pt x="55" y="12"/>
                    </a:lnTo>
                    <a:lnTo>
                      <a:pt x="48" y="6"/>
                    </a:lnTo>
                    <a:lnTo>
                      <a:pt x="41" y="3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15" y="9"/>
                    </a:lnTo>
                    <a:lnTo>
                      <a:pt x="23" y="11"/>
                    </a:lnTo>
                    <a:lnTo>
                      <a:pt x="31" y="16"/>
                    </a:lnTo>
                    <a:lnTo>
                      <a:pt x="38" y="21"/>
                    </a:lnTo>
                    <a:lnTo>
                      <a:pt x="42" y="27"/>
                    </a:lnTo>
                    <a:lnTo>
                      <a:pt x="47" y="35"/>
                    </a:lnTo>
                    <a:lnTo>
                      <a:pt x="49" y="43"/>
                    </a:lnTo>
                    <a:lnTo>
                      <a:pt x="50" y="53"/>
                    </a:lnTo>
                    <a:lnTo>
                      <a:pt x="49" y="61"/>
                    </a:lnTo>
                    <a:lnTo>
                      <a:pt x="48" y="69"/>
                    </a:lnTo>
                    <a:lnTo>
                      <a:pt x="45" y="76"/>
                    </a:lnTo>
                    <a:lnTo>
                      <a:pt x="41" y="81"/>
                    </a:lnTo>
                    <a:lnTo>
                      <a:pt x="52" y="74"/>
                    </a:lnTo>
                    <a:lnTo>
                      <a:pt x="60" y="65"/>
                    </a:lnTo>
                    <a:lnTo>
                      <a:pt x="65" y="55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f2e2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62" name="Line 82"/>
            <p:cNvSpPr/>
            <p:nvPr/>
          </p:nvSpPr>
          <p:spPr>
            <a:xfrm>
              <a:off x="714240" y="5533920"/>
              <a:ext cx="740124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3" name="Line 83"/>
          <p:cNvSpPr/>
          <p:nvPr/>
        </p:nvSpPr>
        <p:spPr>
          <a:xfrm flipV="1">
            <a:off x="3629160" y="3809520"/>
            <a:ext cx="0" cy="22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Line 84"/>
          <p:cNvSpPr/>
          <p:nvPr/>
        </p:nvSpPr>
        <p:spPr>
          <a:xfrm>
            <a:off x="3292560" y="5883120"/>
            <a:ext cx="22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Text Box 85"/>
          <p:cNvSpPr/>
          <p:nvPr/>
        </p:nvSpPr>
        <p:spPr>
          <a:xfrm>
            <a:off x="3356280" y="3726000"/>
            <a:ext cx="971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86"/>
          <p:cNvSpPr/>
          <p:nvPr/>
        </p:nvSpPr>
        <p:spPr>
          <a:xfrm>
            <a:off x="4793040" y="5935680"/>
            <a:ext cx="974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83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84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286920"/>
            <a:ext cx="7785000" cy="11970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Datorgrafik och dynamiska system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50800" y="1832040"/>
            <a:ext cx="818676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Uppgift 2 är ägnad åt modellering och animering av tvådimensionella objekt, en enkel form av datorgrafik med samma metoder som i tredimensionella dataspe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Modelleringen av objekt i dataspel sker i matrisform på samma sätt som vi modellerade polygonen i uppgift 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Animeringen, dvs objektets rörelser, genereras genom att objektet (låt oss kalla objektmatrisen O) multipliceras med en animeringsmatris, T. Beräkningen för en animeringen blir då O</a:t>
            </a:r>
            <a:r>
              <a:rPr b="0" lang="sv-SE" sz="1600" spc="-1" strike="noStrike" baseline="-25000">
                <a:solidFill>
                  <a:srgbClr val="000000"/>
                </a:solidFill>
                <a:latin typeface="Verdana"/>
              </a:rPr>
              <a:t>ny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= T · O</a:t>
            </a:r>
            <a:r>
              <a:rPr b="0" lang="sv-SE" sz="1600" spc="-1" strike="noStrike" baseline="-25000">
                <a:solidFill>
                  <a:srgbClr val="000000"/>
                </a:solidFill>
                <a:latin typeface="Verdana"/>
              </a:rPr>
              <a:t>gammal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. Genom att använda upprepade sådana beräkninga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kapas en animer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n anledning till att arbeta med animeringar är att dynamiska system ofta kan modelleras med hjälp av sådana. anske har du sett uttrycket för et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ontinuerligt dynamiskt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(t) = A  x(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ler ett diskret dynamiskt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(k + 1) = F  x(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Vi återkommer till detta i uppgift 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Oval 5"/>
          <p:cNvSpPr/>
          <p:nvPr/>
        </p:nvSpPr>
        <p:spPr>
          <a:xfrm>
            <a:off x="681120" y="5006880"/>
            <a:ext cx="460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11160" bIns="-1116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Translation av linjesegment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3"/>
              <p:cNvSpPr txBox="1"/>
              <p:nvPr/>
            </p:nvSpPr>
            <p:spPr>
              <a:xfrm>
                <a:off x="376200" y="1889280"/>
                <a:ext cx="2952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Δx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Δ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Δx</m:t>
                              </m:r>
                            </m:e>
                          </m:mr>
                          <m:mr>
                            <m:e>
                              <m:r>
                                <m:t xml:space="preserve">Δ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1" name="Line 6"/>
          <p:cNvSpPr/>
          <p:nvPr/>
        </p:nvSpPr>
        <p:spPr>
          <a:xfrm>
            <a:off x="3792600" y="6008760"/>
            <a:ext cx="50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Line 7"/>
          <p:cNvSpPr/>
          <p:nvPr/>
        </p:nvSpPr>
        <p:spPr>
          <a:xfrm flipV="1">
            <a:off x="4178160" y="302112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Line 10"/>
          <p:cNvSpPr/>
          <p:nvPr/>
        </p:nvSpPr>
        <p:spPr>
          <a:xfrm>
            <a:off x="5210280" y="302112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Line 11"/>
          <p:cNvSpPr/>
          <p:nvPr/>
        </p:nvSpPr>
        <p:spPr>
          <a:xfrm>
            <a:off x="6238800" y="302112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12"/>
          <p:cNvSpPr/>
          <p:nvPr/>
        </p:nvSpPr>
        <p:spPr>
          <a:xfrm>
            <a:off x="7270920" y="302112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3"/>
          <p:cNvSpPr/>
          <p:nvPr/>
        </p:nvSpPr>
        <p:spPr>
          <a:xfrm>
            <a:off x="3792600" y="501480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4"/>
          <p:cNvSpPr/>
          <p:nvPr/>
        </p:nvSpPr>
        <p:spPr>
          <a:xfrm>
            <a:off x="3919680" y="4024440"/>
            <a:ext cx="39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8287560" y="6005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3626640" y="3016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33"/>
          <p:cNvGrpSpPr/>
          <p:nvPr/>
        </p:nvGrpSpPr>
        <p:grpSpPr>
          <a:xfrm>
            <a:off x="4178160" y="3503520"/>
            <a:ext cx="4670640" cy="2504880"/>
            <a:chOff x="4178160" y="3503520"/>
            <a:chExt cx="4670640" cy="2504880"/>
          </a:xfrm>
        </p:grpSpPr>
        <p:sp>
          <p:nvSpPr>
            <p:cNvPr id="781" name="Line 8"/>
            <p:cNvSpPr/>
            <p:nvPr/>
          </p:nvSpPr>
          <p:spPr>
            <a:xfrm flipV="1">
              <a:off x="4178160" y="5014800"/>
              <a:ext cx="1032120" cy="9936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 flipV="1">
              <a:off x="4178160" y="4024080"/>
              <a:ext cx="1041480" cy="198432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Text Box 18"/>
            <p:cNvSpPr/>
            <p:nvPr/>
          </p:nvSpPr>
          <p:spPr>
            <a:xfrm>
              <a:off x="4289400" y="3503520"/>
              <a:ext cx="125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4" name="Line 19"/>
            <p:cNvSpPr/>
            <p:nvPr/>
          </p:nvSpPr>
          <p:spPr>
            <a:xfrm>
              <a:off x="5219640" y="4024080"/>
              <a:ext cx="0" cy="1008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5" name="Text Box 20"/>
            <p:cNvSpPr/>
            <p:nvPr/>
          </p:nvSpPr>
          <p:spPr>
            <a:xfrm>
              <a:off x="7282800" y="426240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Linjeseg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86" name="Group 34"/>
          <p:cNvGrpSpPr/>
          <p:nvPr/>
        </p:nvGrpSpPr>
        <p:grpSpPr>
          <a:xfrm>
            <a:off x="4138560" y="3602160"/>
            <a:ext cx="3227760" cy="2436840"/>
            <a:chOff x="4138560" y="3602160"/>
            <a:chExt cx="3227760" cy="2436840"/>
          </a:xfrm>
        </p:grpSpPr>
        <p:sp>
          <p:nvSpPr>
            <p:cNvPr id="787" name="Text Box 15"/>
            <p:cNvSpPr/>
            <p:nvPr/>
          </p:nvSpPr>
          <p:spPr>
            <a:xfrm>
              <a:off x="6381360" y="3602160"/>
              <a:ext cx="98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ny</a:t>
              </a:r>
              <a:r>
                <a:rPr b="0" i="1" lang="sv-SE" sz="20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i="1" lang="sv-SE" sz="2000" spc="-1" strike="noStrike" baseline="-25000">
                  <a:solidFill>
                    <a:srgbClr val="000000"/>
                  </a:solidFill>
                  <a:latin typeface="Times New Roman"/>
                </a:rPr>
                <a:t>ny</a:t>
              </a:r>
              <a:r>
                <a:rPr b="0" lang="sv-SE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Line 21"/>
            <p:cNvSpPr/>
            <p:nvPr/>
          </p:nvSpPr>
          <p:spPr>
            <a:xfrm flipV="1">
              <a:off x="4211640" y="4033800"/>
              <a:ext cx="3054240" cy="193356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 flipV="1">
              <a:off x="4138560" y="5013720"/>
              <a:ext cx="3127320" cy="10252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>
              <a:off x="7265880" y="4024440"/>
              <a:ext cx="0" cy="1008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1" name="Text Box 4"/>
          <p:cNvSpPr/>
          <p:nvPr/>
        </p:nvSpPr>
        <p:spPr>
          <a:xfrm>
            <a:off x="271440" y="1141560"/>
            <a:ext cx="8529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m ett linjesegment ska förflyttas, translateras, kan detta göras genom add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271440" y="2598840"/>
            <a:ext cx="8529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en sker inte genom matrismultiplikation och är inte linjä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281160" y="3427560"/>
            <a:ext cx="33289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För att enbart kunna hålla oss till matrismultiplikation och därmed optimera beräkningarna behöver vi göra translationen linjä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Rectangle 29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tangle 30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ounded Rectangle 15"/>
          <p:cNvSpPr/>
          <p:nvPr/>
        </p:nvSpPr>
        <p:spPr>
          <a:xfrm>
            <a:off x="2151000" y="4448160"/>
            <a:ext cx="411120" cy="78264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782640"/>
              <a:gd name="textAreaBottom" fmla="*/ 762840 h 782640"/>
            </a:gdLst>
            <a:ahLst/>
            <a:rect l="textAreaLeft" t="textAreaTop" r="textAreaRight" b="textAreaBottom"/>
            <a:pathLst>
              <a:path w="21600" h="41102">
                <a:moveTo>
                  <a:pt x="3600" y="0"/>
                </a:moveTo>
                <a:arcTo wR="3600" hR="3600" stAng="16200000" swAng="-5400000"/>
                <a:lnTo>
                  <a:pt x="0" y="37502"/>
                </a:lnTo>
                <a:arcTo wR="3600" hR="3600" stAng="10800000" swAng="-5400000"/>
                <a:lnTo>
                  <a:pt x="18000" y="411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ffb8"/>
          </a:solidFill>
          <a:ln w="9360">
            <a:solidFill>
              <a:srgbClr val="b8f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ounded Rectangle 14"/>
          <p:cNvSpPr/>
          <p:nvPr/>
        </p:nvSpPr>
        <p:spPr>
          <a:xfrm>
            <a:off x="3295800" y="2084400"/>
            <a:ext cx="457200" cy="7858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785880"/>
              <a:gd name="textAreaBottom" fmla="*/ 763560 h 785880"/>
            </a:gdLst>
            <a:ahLst/>
            <a:rect l="textAreaLeft" t="textAreaTop" r="textAreaRight" b="textAreaBottom"/>
            <a:pathLst>
              <a:path w="21600" h="37116">
                <a:moveTo>
                  <a:pt x="3600" y="0"/>
                </a:moveTo>
                <a:arcTo wR="3600" hR="3600" stAng="16200000" swAng="-5400000"/>
                <a:lnTo>
                  <a:pt x="0" y="33516"/>
                </a:lnTo>
                <a:arcTo wR="3600" hR="3600" stAng="10800000" swAng="-5400000"/>
                <a:lnTo>
                  <a:pt x="18000" y="371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ffb8"/>
          </a:solidFill>
          <a:ln w="9360">
            <a:solidFill>
              <a:srgbClr val="b8f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ounded Rectangle 13"/>
          <p:cNvSpPr/>
          <p:nvPr/>
        </p:nvSpPr>
        <p:spPr>
          <a:xfrm>
            <a:off x="1343160" y="4459320"/>
            <a:ext cx="784080" cy="762120"/>
          </a:xfrm>
          <a:prstGeom prst="roundRect">
            <a:avLst>
              <a:gd name="adj" fmla="val 16667"/>
            </a:avLst>
          </a:prstGeom>
          <a:solidFill>
            <a:srgbClr val="dfe9ff"/>
          </a:solidFill>
          <a:ln w="9360">
            <a:solidFill>
              <a:srgbClr val="dfe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Rounded Rectangle 12"/>
          <p:cNvSpPr/>
          <p:nvPr/>
        </p:nvSpPr>
        <p:spPr>
          <a:xfrm>
            <a:off x="1457280" y="2073240"/>
            <a:ext cx="892080" cy="828720"/>
          </a:xfrm>
          <a:prstGeom prst="roundRect">
            <a:avLst>
              <a:gd name="adj" fmla="val 16667"/>
            </a:avLst>
          </a:prstGeom>
          <a:solidFill>
            <a:srgbClr val="dfe9ff"/>
          </a:solidFill>
          <a:ln w="9360">
            <a:solidFill>
              <a:srgbClr val="dfe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01600" y="297000"/>
            <a:ext cx="8750160" cy="58104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Translation mha matrismultiplik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5"/>
              <p:cNvSpPr txBox="1"/>
              <p:nvPr/>
            </p:nvSpPr>
            <p:spPr>
              <a:xfrm>
                <a:off x="396720" y="4400640"/>
                <a:ext cx="295308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02" name="Group 14"/>
          <p:cNvGrpSpPr/>
          <p:nvPr/>
        </p:nvGrpSpPr>
        <p:grpSpPr>
          <a:xfrm>
            <a:off x="299880" y="1100160"/>
            <a:ext cx="8116920" cy="1897200"/>
            <a:chOff x="299880" y="1100160"/>
            <a:chExt cx="8116920" cy="1897200"/>
          </a:xfrm>
        </p:grpSpPr>
        <p:sp>
          <p:nvSpPr>
            <p:cNvPr id="803" name="Text Box 7"/>
            <p:cNvSpPr/>
            <p:nvPr/>
          </p:nvSpPr>
          <p:spPr>
            <a:xfrm>
              <a:off x="299880" y="1100160"/>
              <a:ext cx="811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öljande avbildning som nästan är linjär och kallas aff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kan ge spegling, rotation, translation, skalning och skevning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4" name="Object 4"/>
                <p:cNvSpPr txBox="1"/>
                <p:nvPr/>
              </p:nvSpPr>
              <p:spPr>
                <a:xfrm>
                  <a:off x="371520" y="1992240"/>
                  <a:ext cx="6151680" cy="100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e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f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Group 15"/>
          <p:cNvGrpSpPr/>
          <p:nvPr/>
        </p:nvGrpSpPr>
        <p:grpSpPr>
          <a:xfrm>
            <a:off x="297000" y="3218040"/>
            <a:ext cx="8361360" cy="2482560"/>
            <a:chOff x="297000" y="3218040"/>
            <a:chExt cx="8361360" cy="2482560"/>
          </a:xfrm>
        </p:grpSpPr>
        <mc:AlternateContent>
          <mc:Choice xmlns:a14="http://schemas.microsoft.com/office/drawing/2010/main" Requires="a14">
            <p:sp>
              <p:nvSpPr>
                <p:cNvPr id="806" name="Object 6"/>
                <p:cNvSpPr txBox="1"/>
                <p:nvPr/>
              </p:nvSpPr>
              <p:spPr>
                <a:xfrm>
                  <a:off x="3381840" y="4327560"/>
                  <a:ext cx="2611440" cy="13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07" name="Text Box 8"/>
            <p:cNvSpPr/>
            <p:nvPr/>
          </p:nvSpPr>
          <p:spPr>
            <a:xfrm>
              <a:off x="297000" y="3218040"/>
              <a:ext cx="836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atrismultiplikation kan användas om vi byter representation, vi utökar koordinatsystemet med en koordinat, vars värde sätts till 1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8" name="Rectangle 1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1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Exempel på transl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1" name="Group 31"/>
          <p:cNvGrpSpPr/>
          <p:nvPr/>
        </p:nvGrpSpPr>
        <p:grpSpPr>
          <a:xfrm>
            <a:off x="371880" y="4343400"/>
            <a:ext cx="5277960" cy="2111400"/>
            <a:chOff x="371880" y="4343400"/>
            <a:chExt cx="5277960" cy="2111400"/>
          </a:xfrm>
        </p:grpSpPr>
        <mc:AlternateContent>
          <mc:Choice xmlns:a14="http://schemas.microsoft.com/office/drawing/2010/main" Requires="a14">
            <p:sp>
              <p:nvSpPr>
                <p:cNvPr id="812" name="Object 4"/>
                <p:cNvSpPr txBox="1"/>
                <p:nvPr/>
              </p:nvSpPr>
              <p:spPr>
                <a:xfrm>
                  <a:off x="2859120" y="5437080"/>
                  <a:ext cx="27907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3" name="Object 25"/>
                <p:cNvSpPr txBox="1"/>
                <p:nvPr/>
              </p:nvSpPr>
              <p:spPr>
                <a:xfrm>
                  <a:off x="663480" y="5438880"/>
                  <a:ext cx="210672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14" name="Text Box 26"/>
            <p:cNvSpPr/>
            <p:nvPr/>
          </p:nvSpPr>
          <p:spPr>
            <a:xfrm>
              <a:off x="371880" y="4343400"/>
              <a:ext cx="2875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xempel, flytta linje-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gmentet ett steg till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hög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5" name="Group 32"/>
          <p:cNvGrpSpPr/>
          <p:nvPr/>
        </p:nvGrpSpPr>
        <p:grpSpPr>
          <a:xfrm>
            <a:off x="4138560" y="2852640"/>
            <a:ext cx="2089080" cy="2014560"/>
            <a:chOff x="4138560" y="2852640"/>
            <a:chExt cx="2089080" cy="2014560"/>
          </a:xfrm>
        </p:grpSpPr>
        <p:sp>
          <p:nvSpPr>
            <p:cNvPr id="816" name="Line 21"/>
            <p:cNvSpPr/>
            <p:nvPr/>
          </p:nvSpPr>
          <p:spPr>
            <a:xfrm flipV="1">
              <a:off x="4211640" y="2852640"/>
              <a:ext cx="2016000" cy="19432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Line 22"/>
            <p:cNvSpPr/>
            <p:nvPr/>
          </p:nvSpPr>
          <p:spPr>
            <a:xfrm flipV="1">
              <a:off x="4138560" y="3860640"/>
              <a:ext cx="2089080" cy="100656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Line 23"/>
            <p:cNvSpPr/>
            <p:nvPr/>
          </p:nvSpPr>
          <p:spPr>
            <a:xfrm>
              <a:off x="6227640" y="2852640"/>
              <a:ext cx="0" cy="100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9" name="Group 36"/>
          <p:cNvGrpSpPr/>
          <p:nvPr/>
        </p:nvGrpSpPr>
        <p:grpSpPr>
          <a:xfrm>
            <a:off x="60480" y="1173240"/>
            <a:ext cx="8759520" cy="4163760"/>
            <a:chOff x="60480" y="1173240"/>
            <a:chExt cx="8759520" cy="4163760"/>
          </a:xfrm>
        </p:grpSpPr>
        <mc:AlternateContent>
          <mc:Choice xmlns:a14="http://schemas.microsoft.com/office/drawing/2010/main" Requires="a14">
            <p:sp>
              <p:nvSpPr>
                <p:cNvPr id="820" name="Object 3"/>
                <p:cNvSpPr txBox="1"/>
                <p:nvPr/>
              </p:nvSpPr>
              <p:spPr>
                <a:xfrm>
                  <a:off x="395280" y="2708280"/>
                  <a:ext cx="295272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Δ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Δx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Δ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1" name="Object 5"/>
                <p:cNvSpPr txBox="1"/>
                <p:nvPr/>
              </p:nvSpPr>
              <p:spPr>
                <a:xfrm>
                  <a:off x="539640" y="1773360"/>
                  <a:ext cx="201636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Δ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Δ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822" name="Group 35"/>
            <p:cNvGrpSpPr/>
            <p:nvPr/>
          </p:nvGrpSpPr>
          <p:grpSpPr>
            <a:xfrm>
              <a:off x="3626640" y="1844640"/>
              <a:ext cx="5193360" cy="3492360"/>
              <a:chOff x="3626640" y="1844640"/>
              <a:chExt cx="5193360" cy="3492360"/>
            </a:xfrm>
          </p:grpSpPr>
          <p:sp>
            <p:nvSpPr>
              <p:cNvPr id="823" name="Text Box 18"/>
              <p:cNvSpPr/>
              <p:nvPr/>
            </p:nvSpPr>
            <p:spPr>
              <a:xfrm>
                <a:off x="4689000" y="3798720"/>
                <a:ext cx="1003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r>
                  <a:rPr b="0" i="1" lang="sv-SE" sz="2000" spc="-1" strike="noStrike">
                    <a:solidFill>
                      <a:srgbClr val="000000"/>
                    </a:solidFill>
                    <a:latin typeface="Times New Roman"/>
                  </a:rPr>
                  <a:t>, y</a:t>
                </a:r>
                <a:r>
                  <a:rPr b="0" i="1" lang="sv-SE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r>
                  <a:rPr b="0" lang="sv-SE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4" name="Group 33"/>
              <p:cNvGrpSpPr/>
              <p:nvPr/>
            </p:nvGrpSpPr>
            <p:grpSpPr>
              <a:xfrm>
                <a:off x="3626640" y="1844640"/>
                <a:ext cx="5193360" cy="3492360"/>
                <a:chOff x="3626640" y="1844640"/>
                <a:chExt cx="5193360" cy="3492360"/>
              </a:xfrm>
            </p:grpSpPr>
            <p:sp>
              <p:nvSpPr>
                <p:cNvPr id="825" name="Line 6"/>
                <p:cNvSpPr/>
                <p:nvPr/>
              </p:nvSpPr>
              <p:spPr>
                <a:xfrm>
                  <a:off x="3792600" y="4836960"/>
                  <a:ext cx="5027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6" name="Line 7"/>
                <p:cNvSpPr/>
                <p:nvPr/>
              </p:nvSpPr>
              <p:spPr>
                <a:xfrm flipV="1">
                  <a:off x="4178160" y="1849320"/>
                  <a:ext cx="0" cy="348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7" name="Line 8"/>
                <p:cNvSpPr/>
                <p:nvPr/>
              </p:nvSpPr>
              <p:spPr>
                <a:xfrm flipV="1">
                  <a:off x="4178160" y="3843360"/>
                  <a:ext cx="1032120" cy="9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8" name="Line 9"/>
                <p:cNvSpPr/>
                <p:nvPr/>
              </p:nvSpPr>
              <p:spPr>
                <a:xfrm flipV="1">
                  <a:off x="4178160" y="2852640"/>
                  <a:ext cx="1041480" cy="1984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9" name="Line 10"/>
                <p:cNvSpPr/>
                <p:nvPr/>
              </p:nvSpPr>
              <p:spPr>
                <a:xfrm>
                  <a:off x="5210280" y="1849320"/>
                  <a:ext cx="0" cy="323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Line 11"/>
                <p:cNvSpPr/>
                <p:nvPr/>
              </p:nvSpPr>
              <p:spPr>
                <a:xfrm>
                  <a:off x="6238800" y="1849320"/>
                  <a:ext cx="0" cy="323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Line 12"/>
                <p:cNvSpPr/>
                <p:nvPr/>
              </p:nvSpPr>
              <p:spPr>
                <a:xfrm>
                  <a:off x="7270920" y="1849320"/>
                  <a:ext cx="0" cy="323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Line 13"/>
                <p:cNvSpPr/>
                <p:nvPr/>
              </p:nvSpPr>
              <p:spPr>
                <a:xfrm>
                  <a:off x="3792600" y="3843360"/>
                  <a:ext cx="39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Line 14"/>
                <p:cNvSpPr/>
                <p:nvPr/>
              </p:nvSpPr>
              <p:spPr>
                <a:xfrm>
                  <a:off x="3919680" y="2852640"/>
                  <a:ext cx="399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Text Box 15"/>
                <p:cNvSpPr/>
                <p:nvPr/>
              </p:nvSpPr>
              <p:spPr>
                <a:xfrm>
                  <a:off x="4714560" y="2430360"/>
                  <a:ext cx="1003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i="1" lang="sv-SE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2</a:t>
                  </a:r>
                  <a:r>
                    <a:rPr b="0" i="1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, y</a:t>
                  </a:r>
                  <a:r>
                    <a:rPr b="0" i="1" lang="sv-SE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2</a:t>
                  </a:r>
                  <a:r>
                    <a:rPr b="0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Text Box 16"/>
                <p:cNvSpPr/>
                <p:nvPr/>
              </p:nvSpPr>
              <p:spPr>
                <a:xfrm>
                  <a:off x="8287560" y="483408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Text Box 17"/>
                <p:cNvSpPr/>
                <p:nvPr/>
              </p:nvSpPr>
              <p:spPr>
                <a:xfrm>
                  <a:off x="3626640" y="184464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sv-SE" sz="20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5219640" y="2852640"/>
                  <a:ext cx="0" cy="10080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8" name="Text Box 20"/>
                <p:cNvSpPr/>
                <p:nvPr/>
              </p:nvSpPr>
              <p:spPr>
                <a:xfrm>
                  <a:off x="6422040" y="3130560"/>
                  <a:ext cx="184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2400" spc="-1" strike="noStrike">
                      <a:solidFill>
                        <a:srgbClr val="ff3300"/>
                      </a:solidFill>
                      <a:latin typeface="Times New Roman"/>
                    </a:rPr>
                    <a:t>Linjesegm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39" name="Text Box 29"/>
            <p:cNvSpPr/>
            <p:nvPr/>
          </p:nvSpPr>
          <p:spPr>
            <a:xfrm>
              <a:off x="60480" y="1173240"/>
              <a:ext cx="3319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Exempel, transl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0" name="Rectangle 31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32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omogena koordinater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3" name="Group 4"/>
          <p:cNvGrpSpPr/>
          <p:nvPr/>
        </p:nvGrpSpPr>
        <p:grpSpPr>
          <a:xfrm>
            <a:off x="307800" y="1119240"/>
            <a:ext cx="8501760" cy="5164200"/>
            <a:chOff x="307800" y="1119240"/>
            <a:chExt cx="8501760" cy="5164200"/>
          </a:xfrm>
        </p:grpSpPr>
        <p:sp>
          <p:nvSpPr>
            <p:cNvPr id="844" name="Line 6"/>
            <p:cNvSpPr/>
            <p:nvPr/>
          </p:nvSpPr>
          <p:spPr>
            <a:xfrm flipV="1">
              <a:off x="5730840" y="2351160"/>
              <a:ext cx="0" cy="34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5" name="Text Box 7"/>
            <p:cNvSpPr/>
            <p:nvPr/>
          </p:nvSpPr>
          <p:spPr>
            <a:xfrm>
              <a:off x="307800" y="1119240"/>
              <a:ext cx="5274000" cy="22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Genom att använda homogena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koordinater så kan vi uttrycka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translation med hjälp av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matrismultiplikation. Bilden som flyttas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är tvådimensionell och ligger både före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Verdana"/>
                </a:rPr>
                <a:t>och efter operationen i planet z=1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Line 8"/>
            <p:cNvSpPr/>
            <p:nvPr/>
          </p:nvSpPr>
          <p:spPr>
            <a:xfrm>
              <a:off x="4394160" y="5083200"/>
              <a:ext cx="300996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Line 9"/>
            <p:cNvSpPr/>
            <p:nvPr/>
          </p:nvSpPr>
          <p:spPr>
            <a:xfrm flipH="1">
              <a:off x="4362480" y="4527360"/>
              <a:ext cx="3400560" cy="13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Line 10"/>
            <p:cNvSpPr/>
            <p:nvPr/>
          </p:nvSpPr>
          <p:spPr>
            <a:xfrm flipH="1">
              <a:off x="3438000" y="3740040"/>
              <a:ext cx="203868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Line 11"/>
            <p:cNvSpPr/>
            <p:nvPr/>
          </p:nvSpPr>
          <p:spPr>
            <a:xfrm flipH="1" flipV="1">
              <a:off x="3435120" y="4556160"/>
              <a:ext cx="334332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Line 12"/>
            <p:cNvSpPr/>
            <p:nvPr/>
          </p:nvSpPr>
          <p:spPr>
            <a:xfrm flipH="1">
              <a:off x="6737040" y="4410000"/>
              <a:ext cx="1971720" cy="7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Line 13"/>
            <p:cNvSpPr/>
            <p:nvPr/>
          </p:nvSpPr>
          <p:spPr>
            <a:xfrm flipH="1" flipV="1">
              <a:off x="5457600" y="3749400"/>
              <a:ext cx="32382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Line 14"/>
            <p:cNvSpPr/>
            <p:nvPr/>
          </p:nvSpPr>
          <p:spPr>
            <a:xfrm flipV="1">
              <a:off x="5676840" y="4397040"/>
              <a:ext cx="1144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25200" bIns="-252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Text Box 15"/>
            <p:cNvSpPr/>
            <p:nvPr/>
          </p:nvSpPr>
          <p:spPr>
            <a:xfrm>
              <a:off x="5478120" y="4189320"/>
              <a:ext cx="983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Text Box 16"/>
            <p:cNvSpPr/>
            <p:nvPr/>
          </p:nvSpPr>
          <p:spPr>
            <a:xfrm>
              <a:off x="4374000" y="5665680"/>
              <a:ext cx="974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Text Box 17"/>
            <p:cNvSpPr/>
            <p:nvPr/>
          </p:nvSpPr>
          <p:spPr>
            <a:xfrm>
              <a:off x="6880320" y="5284800"/>
              <a:ext cx="971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Text Box 18"/>
            <p:cNvSpPr/>
            <p:nvPr/>
          </p:nvSpPr>
          <p:spPr>
            <a:xfrm>
              <a:off x="5411880" y="2436840"/>
              <a:ext cx="963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Oval 19"/>
            <p:cNvSpPr/>
            <p:nvPr/>
          </p:nvSpPr>
          <p:spPr>
            <a:xfrm>
              <a:off x="6305400" y="4473720"/>
              <a:ext cx="88920" cy="8856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360" bIns="1836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Line 20"/>
            <p:cNvSpPr/>
            <p:nvPr/>
          </p:nvSpPr>
          <p:spPr>
            <a:xfrm flipV="1">
              <a:off x="5057640" y="3130560"/>
              <a:ext cx="2295720" cy="315288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6209280" y="4241880"/>
              <a:ext cx="17042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sv-SE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 , y</a:t>
              </a:r>
              <a:r>
                <a:rPr b="0" i="1" lang="sv-SE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 , 1</a:t>
              </a:r>
              <a:r>
                <a:rPr b="0" lang="sv-SE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0" name="Text Box 22"/>
            <p:cNvSpPr/>
            <p:nvPr/>
          </p:nvSpPr>
          <p:spPr>
            <a:xfrm>
              <a:off x="6987960" y="3362400"/>
              <a:ext cx="18216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Times New Roman"/>
                </a:rPr>
                <a:t>r (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sv-SE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 , y</a:t>
              </a:r>
              <a:r>
                <a:rPr b="0" i="1" lang="sv-SE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sv-SE" sz="1600" spc="-1" strike="noStrike">
                  <a:solidFill>
                    <a:srgbClr val="000000"/>
                  </a:solidFill>
                  <a:latin typeface="Times New Roman"/>
                </a:rPr>
                <a:t> , 1</a:t>
              </a:r>
              <a:r>
                <a:rPr b="0" lang="sv-SE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1" name="Oval 23"/>
            <p:cNvSpPr/>
            <p:nvPr/>
          </p:nvSpPr>
          <p:spPr>
            <a:xfrm>
              <a:off x="5686560" y="529272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8720" bIns="1872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2" name="Rectangle 29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Rectangle 30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Bildbehandlingsmatris, T(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v )</a:t>
            </a: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24"/>
              <p:cNvSpPr txBox="1"/>
              <p:nvPr/>
            </p:nvSpPr>
            <p:spPr>
              <a:xfrm>
                <a:off x="876240" y="2620800"/>
                <a:ext cx="4867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ementen 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ger rotation och spegl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ementen </m:t>
                        </m:r>
                        <m:r>
                          <m:rPr>
                            <m:lit/>
                            <m:nor/>
                          </m:rPr>
                          <m:t xml:space="preserve">e,f</m:t>
                        </m:r>
                        <m:r>
                          <m:rPr>
                            <m:lit/>
                            <m:nor/>
                          </m:rPr>
                          <m:t xml:space="preserve"> ger transl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26"/>
              <p:cNvSpPr txBox="1"/>
              <p:nvPr/>
            </p:nvSpPr>
            <p:spPr>
              <a:xfrm>
                <a:off x="919080" y="1338120"/>
                <a:ext cx="534852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ldhanteringsmatris i 2D ,   </m:t>
                    </m:r>
                    <m:r>
                      <m:t xml:space="preserve">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29"/>
              <p:cNvSpPr txBox="1"/>
              <p:nvPr/>
            </p:nvSpPr>
            <p:spPr>
              <a:xfrm>
                <a:off x="1274760" y="3983040"/>
                <a:ext cx="5286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 bild består av flera vektorer som kan samlas i en bildmatris, H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34"/>
              <p:cNvSpPr txBox="1"/>
              <p:nvPr/>
            </p:nvSpPr>
            <p:spPr>
              <a:xfrm>
                <a:off x="961920" y="5645160"/>
                <a:ext cx="6232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perationerna kan göras på hela bilden med matrismultiplikationer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9" name="Rectangle 8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Rectangle 9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Komposition (1)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12"/>
              <p:cNvSpPr txBox="1"/>
              <p:nvPr/>
            </p:nvSpPr>
            <p:spPr>
              <a:xfrm>
                <a:off x="1004760" y="4227480"/>
                <a:ext cx="5407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en görs som en komposition: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,  där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translation av önskad rotationspunkt till origo,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önskad rotation och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translation tillba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Object 14"/>
              <p:cNvSpPr txBox="1"/>
              <p:nvPr/>
            </p:nvSpPr>
            <p:spPr>
              <a:xfrm>
                <a:off x="977760" y="5330880"/>
                <a:ext cx="48895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önskad punkt ges av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Δ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Δ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Δ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Δ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4" name="Text Box 6"/>
          <p:cNvSpPr/>
          <p:nvPr/>
        </p:nvSpPr>
        <p:spPr>
          <a:xfrm>
            <a:off x="791280" y="1192320"/>
            <a:ext cx="72792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Hur klarar vi att rotera runt en annan punkt är orig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klarar det genom att kombinera med translation a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önskad rotationspunkt till/från ori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5" name="Group 18"/>
          <p:cNvGrpSpPr/>
          <p:nvPr/>
        </p:nvGrpSpPr>
        <p:grpSpPr>
          <a:xfrm>
            <a:off x="958680" y="2511360"/>
            <a:ext cx="5216760" cy="1382400"/>
            <a:chOff x="958680" y="2511360"/>
            <a:chExt cx="5216760" cy="1382400"/>
          </a:xfrm>
        </p:grpSpPr>
        <mc:AlternateContent>
          <mc:Choice xmlns:a14="http://schemas.microsoft.com/office/drawing/2010/main" Requires="a14">
            <p:sp>
              <p:nvSpPr>
                <p:cNvPr id="876" name="Object 10"/>
                <p:cNvSpPr txBox="1"/>
                <p:nvPr/>
              </p:nvSpPr>
              <p:spPr>
                <a:xfrm>
                  <a:off x="958680" y="2511360"/>
                  <a:ext cx="2399040" cy="13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Rotation runt origo ges av:</m:t>
                          </m:r>
                        </m:e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7" name="Object 16"/>
                <p:cNvSpPr txBox="1"/>
                <p:nvPr/>
              </p:nvSpPr>
              <p:spPr>
                <a:xfrm>
                  <a:off x="4473720" y="2595240"/>
                  <a:ext cx="1701720" cy="12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ranslation ges av:</m:t>
                          </m:r>
                        </m:e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Δx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Δy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8" name="Rectangle 27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8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Komposition (2)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683280" y="1236600"/>
            <a:ext cx="6008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llmänt kan en rörelse konstrueras som 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omposition av enkla rörels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7"/>
          <p:cNvSpPr/>
          <p:nvPr/>
        </p:nvSpPr>
        <p:spPr>
          <a:xfrm>
            <a:off x="718920" y="2201760"/>
            <a:ext cx="323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x. Spegling i linjen </a:t>
            </a:r>
            <a:r>
              <a:rPr b="0" i="1" lang="sv-SE" sz="1600" spc="-1" strike="noStrike">
                <a:solidFill>
                  <a:srgbClr val="000000"/>
                </a:solidFill>
                <a:latin typeface="Verdana"/>
              </a:rPr>
              <a:t>x-y=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9"/>
          <p:cNvSpPr/>
          <p:nvPr/>
        </p:nvSpPr>
        <p:spPr>
          <a:xfrm>
            <a:off x="1029600" y="2658960"/>
            <a:ext cx="31474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Kan göras so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n rotation 1/8  varv följt a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spegling i y-axel följt a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rotation tillbaka 1/8 varv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Text Box 12"/>
          <p:cNvSpPr/>
          <p:nvPr/>
        </p:nvSpPr>
        <p:spPr>
          <a:xfrm>
            <a:off x="693000" y="4354560"/>
            <a:ext cx="320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x. Spegling i linjen y=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Text Box 13"/>
          <p:cNvSpPr/>
          <p:nvPr/>
        </p:nvSpPr>
        <p:spPr>
          <a:xfrm>
            <a:off x="1094040" y="4821120"/>
            <a:ext cx="47170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Kan göras so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translation 10 enheter i negativ y-led följt a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spegling i x-axeln följt av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translation 10 enheter i positiv y-l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Rectangle 8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ounded Rectangle 12"/>
          <p:cNvSpPr/>
          <p:nvPr/>
        </p:nvSpPr>
        <p:spPr>
          <a:xfrm>
            <a:off x="2340000" y="3297240"/>
            <a:ext cx="777960" cy="7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Object 2"/>
              <p:cNvSpPr txBox="1"/>
              <p:nvPr/>
            </p:nvSpPr>
            <p:spPr>
              <a:xfrm>
                <a:off x="1444680" y="3254400"/>
                <a:ext cx="2970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0" name="Rounded Rectangle 11"/>
          <p:cNvSpPr/>
          <p:nvPr/>
        </p:nvSpPr>
        <p:spPr>
          <a:xfrm>
            <a:off x="1511280" y="2255760"/>
            <a:ext cx="777960" cy="7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Object 3"/>
              <p:cNvSpPr txBox="1"/>
              <p:nvPr/>
            </p:nvSpPr>
            <p:spPr>
              <a:xfrm>
                <a:off x="1447920" y="2224080"/>
                <a:ext cx="311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262160" y="1255680"/>
            <a:ext cx="7392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Notera att om multiplikationen görs i omvänd ordning fås ett annat resulta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Text Box 4"/>
          <p:cNvSpPr/>
          <p:nvPr/>
        </p:nvSpPr>
        <p:spPr>
          <a:xfrm>
            <a:off x="1255680" y="4427640"/>
            <a:ext cx="7729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atrismultiplikation är alltså inte kommutati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Rectangle 8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9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7" name="Object 2"/>
              <p:cNvSpPr txBox="1"/>
              <p:nvPr/>
            </p:nvSpPr>
            <p:spPr>
              <a:xfrm>
                <a:off x="1436760" y="5375160"/>
                <a:ext cx="3400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8" name="Rounded Rectangle 12"/>
          <p:cNvSpPr/>
          <p:nvPr/>
        </p:nvSpPr>
        <p:spPr>
          <a:xfrm>
            <a:off x="5149800" y="2181240"/>
            <a:ext cx="777960" cy="77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Object 3"/>
              <p:cNvSpPr txBox="1"/>
              <p:nvPr/>
            </p:nvSpPr>
            <p:spPr>
              <a:xfrm>
                <a:off x="5089680" y="2141640"/>
                <a:ext cx="3498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0" name="Rounded Rectangle 10"/>
          <p:cNvSpPr/>
          <p:nvPr/>
        </p:nvSpPr>
        <p:spPr>
          <a:xfrm>
            <a:off x="1517760" y="4054320"/>
            <a:ext cx="777600" cy="777960"/>
          </a:xfrm>
          <a:custGeom>
            <a:avLst/>
            <a:gdLst>
              <a:gd name="textAreaLeft" fmla="*/ 37800 w 777600"/>
              <a:gd name="textAreaRight" fmla="*/ 739800 w 777600"/>
              <a:gd name="textAreaTop" fmla="*/ 37800 h 777960"/>
              <a:gd name="textAreaBottom" fmla="*/ 740160 h 77796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Rounded Rectangle 9"/>
          <p:cNvSpPr/>
          <p:nvPr/>
        </p:nvSpPr>
        <p:spPr>
          <a:xfrm>
            <a:off x="1511280" y="2212920"/>
            <a:ext cx="777960" cy="77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Rounded Rectangle 11"/>
          <p:cNvSpPr/>
          <p:nvPr/>
        </p:nvSpPr>
        <p:spPr>
          <a:xfrm>
            <a:off x="2338560" y="4059360"/>
            <a:ext cx="777600" cy="77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1262160" y="1255680"/>
            <a:ext cx="7392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ll vi att våra vektorer ska genomgå samma avbildning två gånger kan operationen upprepas två gån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Text Box 4"/>
          <p:cNvSpPr/>
          <p:nvPr/>
        </p:nvSpPr>
        <p:spPr>
          <a:xfrm>
            <a:off x="1233360" y="4896000"/>
            <a:ext cx="7729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multiplicerar detta resultat vektorer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4"/>
              <p:cNvSpPr txBox="1"/>
              <p:nvPr/>
            </p:nvSpPr>
            <p:spPr>
              <a:xfrm>
                <a:off x="1447920" y="2165400"/>
                <a:ext cx="311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7" name="Text Box 4"/>
          <p:cNvSpPr/>
          <p:nvPr/>
        </p:nvSpPr>
        <p:spPr>
          <a:xfrm>
            <a:off x="1258920" y="3230640"/>
            <a:ext cx="7729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kan också först multiplicera avbildningsmatriserna med varand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36600" y="6207120"/>
            <a:ext cx="7729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amma resultat! Matrismultiplikation är associati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5"/>
              <p:cNvSpPr txBox="1"/>
              <p:nvPr/>
            </p:nvSpPr>
            <p:spPr>
              <a:xfrm>
                <a:off x="1452600" y="4017960"/>
                <a:ext cx="2994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0" name="Rectangle 17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Rectangle 18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ounded Rectangle 18"/>
          <p:cNvSpPr/>
          <p:nvPr/>
        </p:nvSpPr>
        <p:spPr>
          <a:xfrm>
            <a:off x="1352520" y="4106880"/>
            <a:ext cx="914400" cy="7300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ff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ounded Rectangle 17"/>
          <p:cNvSpPr/>
          <p:nvPr/>
        </p:nvSpPr>
        <p:spPr>
          <a:xfrm>
            <a:off x="2878200" y="5484960"/>
            <a:ext cx="1733400" cy="780840"/>
          </a:xfrm>
          <a:prstGeom prst="roundRect">
            <a:avLst>
              <a:gd name="adj" fmla="val 16667"/>
            </a:avLst>
          </a:prstGeom>
          <a:solidFill>
            <a:srgbClr val="c0d2fe"/>
          </a:solidFill>
          <a:ln w="38160">
            <a:solidFill>
              <a:srgbClr val="c0d2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ounded Rectangle 15"/>
          <p:cNvSpPr/>
          <p:nvPr/>
        </p:nvSpPr>
        <p:spPr>
          <a:xfrm>
            <a:off x="1338120" y="3121200"/>
            <a:ext cx="1733760" cy="780840"/>
          </a:xfrm>
          <a:prstGeom prst="roundRect">
            <a:avLst>
              <a:gd name="adj" fmla="val 16667"/>
            </a:avLst>
          </a:prstGeom>
          <a:solidFill>
            <a:srgbClr val="c0d2fe"/>
          </a:solidFill>
          <a:ln w="38160">
            <a:solidFill>
              <a:srgbClr val="c0d2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Rounded Rectangle 13"/>
          <p:cNvSpPr/>
          <p:nvPr/>
        </p:nvSpPr>
        <p:spPr>
          <a:xfrm>
            <a:off x="1328760" y="2179800"/>
            <a:ext cx="807840" cy="753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cc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1262160" y="1255680"/>
            <a:ext cx="7392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ftersom matrismultiplikation är associativ gäller följande för matriserna A, B och C samt vektorn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ounded Rectangle 19"/>
          <p:cNvSpPr/>
          <p:nvPr/>
        </p:nvSpPr>
        <p:spPr>
          <a:xfrm>
            <a:off x="4694400" y="5500800"/>
            <a:ext cx="914400" cy="7286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ff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Rounded Rectangle 20"/>
          <p:cNvSpPr/>
          <p:nvPr/>
        </p:nvSpPr>
        <p:spPr>
          <a:xfrm>
            <a:off x="2022480" y="5506920"/>
            <a:ext cx="808200" cy="75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cc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2"/>
              <p:cNvSpPr txBox="1"/>
              <p:nvPr/>
            </p:nvSpPr>
            <p:spPr>
              <a:xfrm>
                <a:off x="781200" y="2106720"/>
                <a:ext cx="7253280" cy="42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kalning 2 gånger   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rotation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radianer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pegling i y - axel</m:t>
                        </m:r>
                      </m:e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d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1" name="Rectangle 10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11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ur representeras en bild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2882880" y="213840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Line 5"/>
          <p:cNvSpPr/>
          <p:nvPr/>
        </p:nvSpPr>
        <p:spPr>
          <a:xfrm>
            <a:off x="391464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Line 6"/>
          <p:cNvSpPr/>
          <p:nvPr/>
        </p:nvSpPr>
        <p:spPr>
          <a:xfrm>
            <a:off x="494352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Line 7"/>
          <p:cNvSpPr/>
          <p:nvPr/>
        </p:nvSpPr>
        <p:spPr>
          <a:xfrm>
            <a:off x="597528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Line 8"/>
          <p:cNvSpPr/>
          <p:nvPr/>
        </p:nvSpPr>
        <p:spPr>
          <a:xfrm>
            <a:off x="2496960" y="4132440"/>
            <a:ext cx="39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2624040" y="3009960"/>
            <a:ext cx="39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956840" y="33051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ae00"/>
                </a:solidFill>
                <a:latin typeface="Times New Roman"/>
              </a:rPr>
              <a:t>B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933720" y="3009960"/>
            <a:ext cx="998640" cy="11397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14"/>
          <p:cNvSpPr/>
          <p:nvPr/>
        </p:nvSpPr>
        <p:spPr>
          <a:xfrm flipV="1">
            <a:off x="2886120" y="2997000"/>
            <a:ext cx="1025640" cy="1136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2890440" y="4125960"/>
            <a:ext cx="9720" cy="10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4932360" y="4148280"/>
            <a:ext cx="0" cy="936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3373560" y="4589640"/>
            <a:ext cx="0" cy="5029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Line 18"/>
          <p:cNvSpPr/>
          <p:nvPr/>
        </p:nvSpPr>
        <p:spPr>
          <a:xfrm flipV="1">
            <a:off x="3365640" y="4584600"/>
            <a:ext cx="582480" cy="5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3922560" y="4589640"/>
            <a:ext cx="0" cy="5029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386000" y="1200240"/>
            <a:ext cx="4839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n bild kan representeras gen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tt vi förbinder punk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Oval 26"/>
          <p:cNvSpPr/>
          <p:nvPr/>
        </p:nvSpPr>
        <p:spPr>
          <a:xfrm>
            <a:off x="2847960" y="406080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Oval 27"/>
          <p:cNvSpPr/>
          <p:nvPr/>
        </p:nvSpPr>
        <p:spPr>
          <a:xfrm>
            <a:off x="3876840" y="2955960"/>
            <a:ext cx="11088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28"/>
          <p:cNvSpPr/>
          <p:nvPr/>
        </p:nvSpPr>
        <p:spPr>
          <a:xfrm>
            <a:off x="4879800" y="410220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Oval 34"/>
          <p:cNvSpPr/>
          <p:nvPr/>
        </p:nvSpPr>
        <p:spPr>
          <a:xfrm>
            <a:off x="3317760" y="453852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Oval 35"/>
          <p:cNvSpPr/>
          <p:nvPr/>
        </p:nvSpPr>
        <p:spPr>
          <a:xfrm>
            <a:off x="3886200" y="453384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Line 38"/>
          <p:cNvSpPr/>
          <p:nvPr/>
        </p:nvSpPr>
        <p:spPr>
          <a:xfrm flipV="1">
            <a:off x="2911320" y="5135400"/>
            <a:ext cx="451080" cy="64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8"/>
          <p:cNvSpPr/>
          <p:nvPr/>
        </p:nvSpPr>
        <p:spPr>
          <a:xfrm>
            <a:off x="3908520" y="5132520"/>
            <a:ext cx="1047600" cy="2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2835360" y="5046840"/>
            <a:ext cx="110880" cy="1234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200" bIns="432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Oval 29"/>
          <p:cNvSpPr/>
          <p:nvPr/>
        </p:nvSpPr>
        <p:spPr>
          <a:xfrm>
            <a:off x="4883040" y="503712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3311640" y="5037120"/>
            <a:ext cx="11088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Oval 37"/>
          <p:cNvSpPr/>
          <p:nvPr/>
        </p:nvSpPr>
        <p:spPr>
          <a:xfrm>
            <a:off x="3860640" y="5049720"/>
            <a:ext cx="111240" cy="1238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560" bIns="4356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9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40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8"/>
          <p:cNvSpPr/>
          <p:nvPr/>
        </p:nvSpPr>
        <p:spPr>
          <a:xfrm flipH="1">
            <a:off x="3873600" y="5113440"/>
            <a:ext cx="103968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ur representeras en bild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2882880" y="213840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6"/>
          <p:cNvSpPr/>
          <p:nvPr/>
        </p:nvSpPr>
        <p:spPr>
          <a:xfrm>
            <a:off x="391464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94352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"/>
          <p:cNvSpPr/>
          <p:nvPr/>
        </p:nvSpPr>
        <p:spPr>
          <a:xfrm>
            <a:off x="597528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9"/>
          <p:cNvSpPr/>
          <p:nvPr/>
        </p:nvSpPr>
        <p:spPr>
          <a:xfrm>
            <a:off x="2496960" y="4132440"/>
            <a:ext cx="39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624040" y="3009960"/>
            <a:ext cx="39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956840" y="33051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ae00"/>
                </a:solidFill>
                <a:latin typeface="Times New Roman"/>
              </a:rPr>
              <a:t>B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933720" y="3009960"/>
            <a:ext cx="998640" cy="11397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6"/>
          <p:cNvSpPr/>
          <p:nvPr/>
        </p:nvSpPr>
        <p:spPr>
          <a:xfrm flipV="1">
            <a:off x="2886120" y="2997000"/>
            <a:ext cx="1025640" cy="1136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7"/>
          <p:cNvSpPr/>
          <p:nvPr/>
        </p:nvSpPr>
        <p:spPr>
          <a:xfrm flipH="1">
            <a:off x="2890440" y="4125960"/>
            <a:ext cx="9720" cy="10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8"/>
          <p:cNvSpPr/>
          <p:nvPr/>
        </p:nvSpPr>
        <p:spPr>
          <a:xfrm flipH="1">
            <a:off x="2886120" y="5110200"/>
            <a:ext cx="55224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9"/>
          <p:cNvSpPr/>
          <p:nvPr/>
        </p:nvSpPr>
        <p:spPr>
          <a:xfrm flipH="1">
            <a:off x="4930920" y="4148280"/>
            <a:ext cx="1440" cy="9792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3371760" y="4567320"/>
            <a:ext cx="3240" cy="5634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21"/>
          <p:cNvSpPr/>
          <p:nvPr/>
        </p:nvSpPr>
        <p:spPr>
          <a:xfrm flipV="1">
            <a:off x="3363840" y="4581360"/>
            <a:ext cx="536760" cy="64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3921120" y="4592520"/>
            <a:ext cx="0" cy="50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27"/>
          <p:cNvSpPr/>
          <p:nvPr/>
        </p:nvSpPr>
        <p:spPr>
          <a:xfrm flipV="1">
            <a:off x="2882880" y="4130280"/>
            <a:ext cx="14400" cy="995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2863800" y="5122800"/>
            <a:ext cx="58104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9"/>
          <p:cNvSpPr/>
          <p:nvPr/>
        </p:nvSpPr>
        <p:spPr>
          <a:xfrm>
            <a:off x="2881440" y="5102280"/>
            <a:ext cx="101412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31"/>
          <p:cNvSpPr/>
          <p:nvPr/>
        </p:nvSpPr>
        <p:spPr>
          <a:xfrm flipV="1">
            <a:off x="2890800" y="4570200"/>
            <a:ext cx="485640" cy="5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32"/>
          <p:cNvSpPr/>
          <p:nvPr/>
        </p:nvSpPr>
        <p:spPr>
          <a:xfrm flipV="1">
            <a:off x="2881440" y="4570200"/>
            <a:ext cx="1033200" cy="54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33"/>
          <p:cNvSpPr/>
          <p:nvPr/>
        </p:nvSpPr>
        <p:spPr>
          <a:xfrm>
            <a:off x="2886120" y="5105520"/>
            <a:ext cx="206676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1449720" y="1200240"/>
            <a:ext cx="597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n bild kan också representeras genom a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förbinder spetsarna på ortsvektor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5"/>
          <p:cNvSpPr/>
          <p:nvPr/>
        </p:nvSpPr>
        <p:spPr>
          <a:xfrm flipV="1">
            <a:off x="2882880" y="3009960"/>
            <a:ext cx="1031760" cy="21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4"/>
          <p:cNvSpPr/>
          <p:nvPr/>
        </p:nvSpPr>
        <p:spPr>
          <a:xfrm flipV="1">
            <a:off x="2887560" y="4149360"/>
            <a:ext cx="2044800" cy="9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18"/>
          <p:cNvSpPr/>
          <p:nvPr/>
        </p:nvSpPr>
        <p:spPr>
          <a:xfrm flipH="1">
            <a:off x="3873600" y="5113440"/>
            <a:ext cx="103968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ur representeras en bild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 flipH="1" flipV="1">
            <a:off x="2882520" y="2138400"/>
            <a:ext cx="3240" cy="30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1760" y="2557440"/>
            <a:ext cx="1440" cy="26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4941360" y="2608200"/>
            <a:ext cx="3240" cy="25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8"/>
          <p:cNvSpPr/>
          <p:nvPr/>
        </p:nvSpPr>
        <p:spPr>
          <a:xfrm flipH="1">
            <a:off x="5974920" y="2565360"/>
            <a:ext cx="1800" cy="28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743200" y="4132440"/>
            <a:ext cx="374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2717640" y="3005280"/>
            <a:ext cx="390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956840" y="33051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ae00"/>
                </a:solidFill>
                <a:latin typeface="Times New Roman"/>
              </a:rPr>
              <a:t>B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933720" y="3009960"/>
            <a:ext cx="998640" cy="11397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6"/>
          <p:cNvSpPr/>
          <p:nvPr/>
        </p:nvSpPr>
        <p:spPr>
          <a:xfrm flipV="1">
            <a:off x="2886120" y="2997000"/>
            <a:ext cx="1025640" cy="1136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17"/>
          <p:cNvSpPr/>
          <p:nvPr/>
        </p:nvSpPr>
        <p:spPr>
          <a:xfrm flipH="1">
            <a:off x="2890440" y="4125960"/>
            <a:ext cx="9720" cy="10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8"/>
          <p:cNvSpPr/>
          <p:nvPr/>
        </p:nvSpPr>
        <p:spPr>
          <a:xfrm flipH="1">
            <a:off x="2886120" y="5110200"/>
            <a:ext cx="55224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19"/>
          <p:cNvSpPr/>
          <p:nvPr/>
        </p:nvSpPr>
        <p:spPr>
          <a:xfrm flipH="1">
            <a:off x="4930920" y="4148280"/>
            <a:ext cx="1440" cy="9792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3376440" y="4589640"/>
            <a:ext cx="0" cy="5410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21"/>
          <p:cNvSpPr/>
          <p:nvPr/>
        </p:nvSpPr>
        <p:spPr>
          <a:xfrm flipV="1">
            <a:off x="3363840" y="4587840"/>
            <a:ext cx="536760" cy="79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3921120" y="4592520"/>
            <a:ext cx="0" cy="50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7"/>
          <p:cNvSpPr/>
          <p:nvPr/>
        </p:nvSpPr>
        <p:spPr>
          <a:xfrm flipV="1">
            <a:off x="2882880" y="4130280"/>
            <a:ext cx="14400" cy="995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2863800" y="5122800"/>
            <a:ext cx="58104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2881440" y="5102280"/>
            <a:ext cx="101412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31"/>
          <p:cNvSpPr/>
          <p:nvPr/>
        </p:nvSpPr>
        <p:spPr>
          <a:xfrm flipV="1">
            <a:off x="2890800" y="4589640"/>
            <a:ext cx="485640" cy="52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32"/>
          <p:cNvSpPr/>
          <p:nvPr/>
        </p:nvSpPr>
        <p:spPr>
          <a:xfrm flipV="1">
            <a:off x="2881440" y="4573440"/>
            <a:ext cx="1042920" cy="532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33"/>
          <p:cNvSpPr/>
          <p:nvPr/>
        </p:nvSpPr>
        <p:spPr>
          <a:xfrm>
            <a:off x="2886120" y="5105520"/>
            <a:ext cx="206676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1438200" y="1200240"/>
            <a:ext cx="549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rtsvektorerna kan ordnas i en matr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2009880" y="5533920"/>
                <a:ext cx="4597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Text Box 12"/>
          <p:cNvSpPr/>
          <p:nvPr/>
        </p:nvSpPr>
        <p:spPr>
          <a:xfrm>
            <a:off x="2450520" y="2801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459160" y="395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762720" y="5068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784760" y="5089680"/>
            <a:ext cx="3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2887560" y="4149360"/>
            <a:ext cx="2044800" cy="9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5"/>
          <p:cNvSpPr/>
          <p:nvPr/>
        </p:nvSpPr>
        <p:spPr>
          <a:xfrm flipV="1">
            <a:off x="2882880" y="3009960"/>
            <a:ext cx="1031760" cy="21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9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Hur representeras en bild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1500120" y="1200240"/>
            <a:ext cx="6293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När huset ska flyttas kan matrisen använda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å så sätt behöver inte vektorerna flyttas va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ch en för si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 flipV="1">
            <a:off x="2882520" y="2138400"/>
            <a:ext cx="3240" cy="30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3911760" y="2557440"/>
            <a:ext cx="1440" cy="26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7"/>
          <p:cNvSpPr/>
          <p:nvPr/>
        </p:nvSpPr>
        <p:spPr>
          <a:xfrm flipH="1">
            <a:off x="4941360" y="2608200"/>
            <a:ext cx="3240" cy="25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5974920" y="2565360"/>
            <a:ext cx="1800" cy="28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2743200" y="4132440"/>
            <a:ext cx="374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2717640" y="3005280"/>
            <a:ext cx="390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4937040" y="1989000"/>
            <a:ext cx="1025640" cy="1175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3916440" y="2010960"/>
            <a:ext cx="1025280" cy="1136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3908520" y="3130560"/>
            <a:ext cx="9360" cy="10098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3876840" y="4108320"/>
            <a:ext cx="55224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5962680" y="3162240"/>
            <a:ext cx="0" cy="9795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406760" y="3603600"/>
            <a:ext cx="0" cy="54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21"/>
          <p:cNvSpPr/>
          <p:nvPr/>
        </p:nvSpPr>
        <p:spPr>
          <a:xfrm flipV="1">
            <a:off x="4395960" y="3602160"/>
            <a:ext cx="534960" cy="79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4951440" y="3606840"/>
            <a:ext cx="3240" cy="5191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7"/>
          <p:cNvSpPr/>
          <p:nvPr/>
        </p:nvSpPr>
        <p:spPr>
          <a:xfrm flipV="1">
            <a:off x="2886120" y="3144960"/>
            <a:ext cx="1041480" cy="198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28"/>
          <p:cNvSpPr/>
          <p:nvPr/>
        </p:nvSpPr>
        <p:spPr>
          <a:xfrm flipV="1">
            <a:off x="2894040" y="4129200"/>
            <a:ext cx="1523880" cy="100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31"/>
          <p:cNvSpPr/>
          <p:nvPr/>
        </p:nvSpPr>
        <p:spPr>
          <a:xfrm flipV="1">
            <a:off x="2889360" y="3603600"/>
            <a:ext cx="1517400" cy="151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32"/>
          <p:cNvSpPr/>
          <p:nvPr/>
        </p:nvSpPr>
        <p:spPr>
          <a:xfrm flipV="1">
            <a:off x="2884320" y="3598560"/>
            <a:ext cx="2060640" cy="15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450520" y="2801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459160" y="395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762720" y="5068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784760" y="5089680"/>
            <a:ext cx="3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2886120" y="3163680"/>
            <a:ext cx="3076560" cy="1957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18"/>
          <p:cNvSpPr/>
          <p:nvPr/>
        </p:nvSpPr>
        <p:spPr>
          <a:xfrm flipH="1">
            <a:off x="4944960" y="4127400"/>
            <a:ext cx="1000080" cy="64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29"/>
          <p:cNvSpPr/>
          <p:nvPr/>
        </p:nvSpPr>
        <p:spPr>
          <a:xfrm flipV="1">
            <a:off x="2897280" y="4116240"/>
            <a:ext cx="2074680" cy="101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3"/>
          <p:cNvSpPr/>
          <p:nvPr/>
        </p:nvSpPr>
        <p:spPr>
          <a:xfrm flipV="1">
            <a:off x="2887560" y="4125600"/>
            <a:ext cx="3083040" cy="100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2886120" y="2023560"/>
            <a:ext cx="2058840" cy="310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986120" y="5533920"/>
                <a:ext cx="464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Rectangle 70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2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3"/>
          <p:cNvSpPr/>
          <p:nvPr/>
        </p:nvSpPr>
        <p:spPr>
          <a:xfrm>
            <a:off x="2496960" y="512604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4"/>
          <p:cNvSpPr/>
          <p:nvPr/>
        </p:nvSpPr>
        <p:spPr>
          <a:xfrm flipV="1">
            <a:off x="2882880" y="213840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5"/>
          <p:cNvSpPr/>
          <p:nvPr/>
        </p:nvSpPr>
        <p:spPr>
          <a:xfrm flipV="1">
            <a:off x="2882880" y="4132440"/>
            <a:ext cx="1031760" cy="99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6"/>
          <p:cNvSpPr/>
          <p:nvPr/>
        </p:nvSpPr>
        <p:spPr>
          <a:xfrm flipV="1">
            <a:off x="2882880" y="3009960"/>
            <a:ext cx="1031760" cy="21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391464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494352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5975280" y="213840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2496960" y="4132440"/>
            <a:ext cx="39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2624040" y="3009960"/>
            <a:ext cx="39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32280" y="2889360"/>
            <a:ext cx="85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992280" y="5122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33136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3925800" y="4040280"/>
            <a:ext cx="85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3924360" y="2997360"/>
            <a:ext cx="0" cy="1152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716360" y="330516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ae00"/>
                </a:solidFill>
                <a:latin typeface="Times New Roman"/>
              </a:rPr>
              <a:t>Bild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Line 18"/>
          <p:cNvSpPr/>
          <p:nvPr/>
        </p:nvSpPr>
        <p:spPr>
          <a:xfrm flipV="1">
            <a:off x="2887560" y="4149360"/>
            <a:ext cx="2044800" cy="9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3933720" y="3009960"/>
            <a:ext cx="998640" cy="11397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924360" y="4149720"/>
            <a:ext cx="10080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4933800" y="4076640"/>
            <a:ext cx="85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3924360" y="2997360"/>
            <a:ext cx="0" cy="1152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574640" y="1117440"/>
            <a:ext cx="6764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tt allmänt bildelement i 2D och 3D-modellering ä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n platt triangel som kan ses som en förbind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v spetsarna på tre ortsvektor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8920" y="298080"/>
            <a:ext cx="8424720" cy="57636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Ett allmänt bilde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2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ed Rectangle 23"/>
          <p:cNvSpPr/>
          <p:nvPr/>
        </p:nvSpPr>
        <p:spPr>
          <a:xfrm>
            <a:off x="1268280" y="4815000"/>
            <a:ext cx="777960" cy="7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ounded Rectangle 21"/>
          <p:cNvSpPr/>
          <p:nvPr/>
        </p:nvSpPr>
        <p:spPr>
          <a:xfrm>
            <a:off x="1308240" y="2603520"/>
            <a:ext cx="777600" cy="777960"/>
          </a:xfrm>
          <a:custGeom>
            <a:avLst/>
            <a:gdLst>
              <a:gd name="textAreaLeft" fmla="*/ 37800 w 777600"/>
              <a:gd name="textAreaRight" fmla="*/ 739800 w 777600"/>
              <a:gd name="textAreaTop" fmla="*/ 37800 h 777960"/>
              <a:gd name="textAreaBottom" fmla="*/ 740160 h 77796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239840" y="2550960"/>
                <a:ext cx="3870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⋅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⋅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262160" y="1255680"/>
            <a:ext cx="7392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ed hjälp av matrismultiplikation kan en ortsvektor flytt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 exemplet nedan flyttas ortsvektorn       till        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2"/>
              <p:cNvSpPr txBox="1"/>
              <p:nvPr/>
            </p:nvSpPr>
            <p:spPr>
              <a:xfrm>
                <a:off x="6066000" y="1758960"/>
                <a:ext cx="502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7018200" y="1762200"/>
                <a:ext cx="646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Text Box 4"/>
          <p:cNvSpPr/>
          <p:nvPr/>
        </p:nvSpPr>
        <p:spPr>
          <a:xfrm>
            <a:off x="1255680" y="3576600"/>
            <a:ext cx="77295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Har vi två ortsvektorer och vill göra samma förflyttning med dem båda kan vektorna ordnas i en matris. I exemplet nedan görs förflyttningen även av vektorn     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8024760" y="3952800"/>
                <a:ext cx="503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7"/>
              <p:cNvSpPr txBox="1"/>
              <p:nvPr/>
            </p:nvSpPr>
            <p:spPr>
              <a:xfrm>
                <a:off x="1214280" y="4786200"/>
                <a:ext cx="311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Line 31"/>
          <p:cNvSpPr/>
          <p:nvPr/>
        </p:nvSpPr>
        <p:spPr>
          <a:xfrm>
            <a:off x="2700360" y="4533840"/>
            <a:ext cx="1440" cy="333360"/>
          </a:xfrm>
          <a:prstGeom prst="line">
            <a:avLst/>
          </a:prstGeom>
          <a:ln w="25560">
            <a:solidFill>
              <a:srgbClr val="009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287360" y="5845320"/>
            <a:ext cx="682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 kommer att kalla beräkningen för en avbildning. De nya ortsvektorerna är avbildningar av de gam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6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7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ounded Rectangle 123"/>
          <p:cNvSpPr/>
          <p:nvPr/>
        </p:nvSpPr>
        <p:spPr>
          <a:xfrm>
            <a:off x="5370480" y="1084320"/>
            <a:ext cx="777960" cy="7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5316480" y="1041480"/>
                <a:ext cx="909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Rounded Rectangle 124"/>
          <p:cNvSpPr/>
          <p:nvPr/>
        </p:nvSpPr>
        <p:spPr>
          <a:xfrm>
            <a:off x="1357200" y="2068560"/>
            <a:ext cx="777960" cy="7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fb9c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a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8920" y="284040"/>
            <a:ext cx="8424720" cy="604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Verdana"/>
              </a:rPr>
              <a:t>Matrismultiplik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62160" y="1255680"/>
            <a:ext cx="7542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Låt oss applicera avbildningen             på huset, tidigare benämnd </a:t>
            </a:r>
            <a:r>
              <a:rPr b="0" i="1" lang="sv-SE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1305000" y="2025720"/>
                <a:ext cx="5195880" cy="17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235" name="Straight Arrow Connector 15"/>
          <p:cNvCxnSpPr/>
          <p:nvPr/>
        </p:nvCxnSpPr>
        <p:spPr>
          <a:xfrm flipV="1">
            <a:off x="1522080" y="6281280"/>
            <a:ext cx="1794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Straight Connector 26"/>
          <p:cNvSpPr/>
          <p:nvPr/>
        </p:nvSpPr>
        <p:spPr>
          <a:xfrm>
            <a:off x="1527120" y="5862600"/>
            <a:ext cx="16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traight Connector 34"/>
          <p:cNvSpPr/>
          <p:nvPr/>
        </p:nvSpPr>
        <p:spPr>
          <a:xfrm>
            <a:off x="1533600" y="543888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traight Connector 47"/>
          <p:cNvSpPr/>
          <p:nvPr/>
        </p:nvSpPr>
        <p:spPr>
          <a:xfrm flipV="1">
            <a:off x="1530360" y="4993920"/>
            <a:ext cx="1635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traight Connector 51"/>
          <p:cNvSpPr/>
          <p:nvPr/>
        </p:nvSpPr>
        <p:spPr>
          <a:xfrm flipV="1">
            <a:off x="153036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traight Connector 54"/>
          <p:cNvSpPr/>
          <p:nvPr/>
        </p:nvSpPr>
        <p:spPr>
          <a:xfrm>
            <a:off x="1530360" y="4079880"/>
            <a:ext cx="1620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Straight Arrow Connector 63"/>
          <p:cNvCxnSpPr/>
          <p:nvPr/>
        </p:nvCxnSpPr>
        <p:spPr>
          <a:xfrm flipV="1">
            <a:off x="1521000" y="3906360"/>
            <a:ext cx="16560" cy="238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Straight Connector 68"/>
          <p:cNvSpPr/>
          <p:nvPr/>
        </p:nvSpPr>
        <p:spPr>
          <a:xfrm flipV="1">
            <a:off x="200340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traight Connector 71"/>
          <p:cNvSpPr/>
          <p:nvPr/>
        </p:nvSpPr>
        <p:spPr>
          <a:xfrm flipV="1">
            <a:off x="2468520" y="4076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Straight Connector 72"/>
          <p:cNvSpPr/>
          <p:nvPr/>
        </p:nvSpPr>
        <p:spPr>
          <a:xfrm flipV="1">
            <a:off x="2946240" y="408096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Box 73"/>
          <p:cNvSpPr/>
          <p:nvPr/>
        </p:nvSpPr>
        <p:spPr>
          <a:xfrm>
            <a:off x="1531800" y="62406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Box 74"/>
          <p:cNvSpPr/>
          <p:nvPr/>
        </p:nvSpPr>
        <p:spPr>
          <a:xfrm>
            <a:off x="1185120" y="570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Box 75"/>
          <p:cNvSpPr/>
          <p:nvPr/>
        </p:nvSpPr>
        <p:spPr>
          <a:xfrm>
            <a:off x="1136880" y="4834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Box 76"/>
          <p:cNvSpPr/>
          <p:nvPr/>
        </p:nvSpPr>
        <p:spPr>
          <a:xfrm>
            <a:off x="1214640" y="5272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Box 77"/>
          <p:cNvSpPr/>
          <p:nvPr/>
        </p:nvSpPr>
        <p:spPr>
          <a:xfrm>
            <a:off x="114012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Box 78"/>
          <p:cNvSpPr/>
          <p:nvPr/>
        </p:nvSpPr>
        <p:spPr>
          <a:xfrm>
            <a:off x="111312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20"/>
          <p:cNvSpPr/>
          <p:nvPr/>
        </p:nvSpPr>
        <p:spPr>
          <a:xfrm flipH="1" flipV="1">
            <a:off x="1512720" y="6288120"/>
            <a:ext cx="14472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20"/>
          <p:cNvSpPr/>
          <p:nvPr/>
        </p:nvSpPr>
        <p:spPr>
          <a:xfrm flipH="1">
            <a:off x="1757520" y="6289560"/>
            <a:ext cx="25704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Straight Arrow Connector 90"/>
          <p:cNvCxnSpPr/>
          <p:nvPr/>
        </p:nvCxnSpPr>
        <p:spPr>
          <a:xfrm flipV="1">
            <a:off x="4311360" y="6281280"/>
            <a:ext cx="17946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Straight Connector 91"/>
          <p:cNvSpPr/>
          <p:nvPr/>
        </p:nvSpPr>
        <p:spPr>
          <a:xfrm>
            <a:off x="4316400" y="586440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traight Connector 92"/>
          <p:cNvSpPr/>
          <p:nvPr/>
        </p:nvSpPr>
        <p:spPr>
          <a:xfrm flipV="1">
            <a:off x="4322880" y="5438880"/>
            <a:ext cx="1631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traight Connector 93"/>
          <p:cNvSpPr/>
          <p:nvPr/>
        </p:nvSpPr>
        <p:spPr>
          <a:xfrm flipV="1">
            <a:off x="4319640" y="4995360"/>
            <a:ext cx="1635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traight Connector 94"/>
          <p:cNvSpPr/>
          <p:nvPr/>
        </p:nvSpPr>
        <p:spPr>
          <a:xfrm flipV="1">
            <a:off x="4319640" y="4535640"/>
            <a:ext cx="1654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traight Connector 95"/>
          <p:cNvSpPr/>
          <p:nvPr/>
        </p:nvSpPr>
        <p:spPr>
          <a:xfrm>
            <a:off x="4319640" y="4079880"/>
            <a:ext cx="1620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9" name="Straight Arrow Connector 96"/>
          <p:cNvCxnSpPr/>
          <p:nvPr/>
        </p:nvCxnSpPr>
        <p:spPr>
          <a:xfrm flipV="1">
            <a:off x="4309920" y="3908160"/>
            <a:ext cx="16560" cy="23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Straight Connector 97"/>
          <p:cNvSpPr/>
          <p:nvPr/>
        </p:nvSpPr>
        <p:spPr>
          <a:xfrm flipV="1">
            <a:off x="4791240" y="4070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Straight Connector 98"/>
          <p:cNvSpPr/>
          <p:nvPr/>
        </p:nvSpPr>
        <p:spPr>
          <a:xfrm flipV="1">
            <a:off x="5257800" y="4076280"/>
            <a:ext cx="0" cy="22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traight Connector 99"/>
          <p:cNvSpPr/>
          <p:nvPr/>
        </p:nvSpPr>
        <p:spPr>
          <a:xfrm flipV="1">
            <a:off x="5735520" y="4083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100"/>
          <p:cNvSpPr/>
          <p:nvPr/>
        </p:nvSpPr>
        <p:spPr>
          <a:xfrm>
            <a:off x="4321080" y="624204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0     4     8   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Box 101"/>
          <p:cNvSpPr/>
          <p:nvPr/>
        </p:nvSpPr>
        <p:spPr>
          <a:xfrm>
            <a:off x="3973680" y="5703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Box 102"/>
          <p:cNvSpPr/>
          <p:nvPr/>
        </p:nvSpPr>
        <p:spPr>
          <a:xfrm>
            <a:off x="3926160" y="4835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Box 103"/>
          <p:cNvSpPr/>
          <p:nvPr/>
        </p:nvSpPr>
        <p:spPr>
          <a:xfrm>
            <a:off x="4002840" y="5273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Box 104"/>
          <p:cNvSpPr/>
          <p:nvPr/>
        </p:nvSpPr>
        <p:spPr>
          <a:xfrm>
            <a:off x="3929400" y="392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Box 105"/>
          <p:cNvSpPr/>
          <p:nvPr/>
        </p:nvSpPr>
        <p:spPr>
          <a:xfrm>
            <a:off x="3902400" y="437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20"/>
          <p:cNvSpPr/>
          <p:nvPr/>
        </p:nvSpPr>
        <p:spPr>
          <a:xfrm flipH="1" flipV="1">
            <a:off x="4302000" y="6287760"/>
            <a:ext cx="144720" cy="3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0"/>
          <p:cNvSpPr/>
          <p:nvPr/>
        </p:nvSpPr>
        <p:spPr>
          <a:xfrm flipH="1">
            <a:off x="4546440" y="6291360"/>
            <a:ext cx="255600" cy="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20"/>
          <p:cNvSpPr/>
          <p:nvPr/>
        </p:nvSpPr>
        <p:spPr>
          <a:xfrm>
            <a:off x="1519200" y="6084720"/>
            <a:ext cx="1800" cy="219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1998720" y="6089760"/>
            <a:ext cx="0" cy="2188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20"/>
          <p:cNvSpPr/>
          <p:nvPr/>
        </p:nvSpPr>
        <p:spPr>
          <a:xfrm flipH="1">
            <a:off x="1517400" y="5861160"/>
            <a:ext cx="252360" cy="2426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1752480" y="5864400"/>
            <a:ext cx="249480" cy="2332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1639800" y="6168960"/>
            <a:ext cx="1800" cy="12852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771560" y="6183360"/>
            <a:ext cx="1800" cy="109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20"/>
          <p:cNvSpPr/>
          <p:nvPr/>
        </p:nvSpPr>
        <p:spPr>
          <a:xfrm flipH="1" flipV="1">
            <a:off x="1619280" y="6175080"/>
            <a:ext cx="171360" cy="468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20"/>
          <p:cNvSpPr/>
          <p:nvPr/>
        </p:nvSpPr>
        <p:spPr>
          <a:xfrm flipH="1">
            <a:off x="4414680" y="5764320"/>
            <a:ext cx="262080" cy="5252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20"/>
          <p:cNvSpPr/>
          <p:nvPr/>
        </p:nvSpPr>
        <p:spPr>
          <a:xfrm flipH="1">
            <a:off x="4536720" y="5769000"/>
            <a:ext cx="260280" cy="5256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20"/>
          <p:cNvSpPr/>
          <p:nvPr/>
        </p:nvSpPr>
        <p:spPr>
          <a:xfrm flipH="1" flipV="1">
            <a:off x="4659120" y="5772240"/>
            <a:ext cx="144360" cy="14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Line 20"/>
          <p:cNvSpPr/>
          <p:nvPr/>
        </p:nvSpPr>
        <p:spPr>
          <a:xfrm flipH="1">
            <a:off x="4314600" y="5210280"/>
            <a:ext cx="485640" cy="10713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20"/>
          <p:cNvSpPr/>
          <p:nvPr/>
        </p:nvSpPr>
        <p:spPr>
          <a:xfrm flipH="1">
            <a:off x="4775040" y="5234040"/>
            <a:ext cx="486000" cy="10731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20"/>
          <p:cNvSpPr/>
          <p:nvPr/>
        </p:nvSpPr>
        <p:spPr>
          <a:xfrm flipH="1">
            <a:off x="4792680" y="4071960"/>
            <a:ext cx="719280" cy="115416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20"/>
          <p:cNvSpPr/>
          <p:nvPr/>
        </p:nvSpPr>
        <p:spPr>
          <a:xfrm flipH="1">
            <a:off x="5257800" y="4071960"/>
            <a:ext cx="246240" cy="11826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6386400" y="4022640"/>
            <a:ext cx="23259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Huset förändras, det behåller inte sin fo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25"/>
          <p:cNvSpPr/>
          <p:nvPr/>
        </p:nvSpPr>
        <p:spPr>
          <a:xfrm>
            <a:off x="12600" y="12600"/>
            <a:ext cx="9099720" cy="2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26"/>
          <p:cNvSpPr/>
          <p:nvPr/>
        </p:nvSpPr>
        <p:spPr>
          <a:xfrm>
            <a:off x="30240" y="6602400"/>
            <a:ext cx="909936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9:10:23Z</dcterms:created>
  <dc:creator>Mats Loock</dc:creator>
  <dc:description/>
  <dc:language>en-US</dc:language>
  <cp:lastModifiedBy>Anders Hultgren</cp:lastModifiedBy>
  <dcterms:modified xsi:type="dcterms:W3CDTF">2015-06-13T08:10:29Z</dcterms:modified>
  <cp:revision>568</cp:revision>
  <dc:subject>Ingenjörsvetenskap</dc:subject>
  <dc:title>Matematisk modellering A1, Algoritmer</dc:title>
</cp:coreProperties>
</file>